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8002588" cy="11314113"/>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34B02-131A-4512-BCE2-C1C9390FB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B6CE-9D4D-4AE8-BD3E-27C80091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612BC-43DA-40E2-94A2-C790D90DD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82312-C52A-4EAA-BDE3-296B60A79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62ACE-7BFE-4670-B29E-85E6033D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BEC0-FBE8-4EB2-8AF2-FE5F99C9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13C8C-67CC-451A-A41C-9286286E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1848A-EDB4-434E-9542-F0ED06263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98277-36CA-46E1-885B-E2DB76E71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EA7A-69A3-4844-9C2B-E437BE3D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D446-ADA0-409D-B10E-45C7328D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3276-05BD-48BC-835B-7E525D077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362A-984B-45CA-B7D5-030FCD1E990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42" name="PlaceHolder 2"/>
          <p:cNvSpPr>
            <a:spLocks noGrp="1"/>
          </p:cNvSpPr>
          <p:nvPr>
            <p:ph type="subTitle"/>
          </p:nvPr>
        </p:nvSpPr>
        <p:spPr>
          <a:xfrm>
            <a:off x="457200" y="4267080"/>
            <a:ext cx="3276720" cy="6400800"/>
          </a:xfrm>
          <a:prstGeom prst="rect">
            <a:avLst/>
          </a:prstGeom>
          <a:noFill/>
          <a:ln w="0">
            <a:noFill/>
          </a:ln>
        </p:spPr>
        <p:txBody>
          <a:bodyPr lIns="90000" rIns="90000" tIns="46800" bIns="4680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éfini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Une noue d’infiltration est un type de fossé peu profond et d’emprise large, généralement engazonnée, servant à la rétention, au stockage, à la dépollution (décantation et traitement naturel) et à l’infiltration des eaux. Cette technique alternative peut donc permettre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imiter et/ou ralentir les apports d’eaux pluviales et les eaux de ruissellement dans les réseaux d’assainissement,</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en cas d’absence, de servir d’exutoire afin d’évacuer les eaux traitées issues de dispositifs d’assainissement non collectif.</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Réglementa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rticle 10 de la Loi sur l’Eau indique que toutes installations de noues sont soumises à autorisation ou à simple déclaration, suivant les dangers qu’elles présentent et la gravité de leurs effets sur la ressource en eau et les écosystèmes aquatiq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collectivités territoriales, devant assurer la protection de la ressource en eau et de l’environnement, ont la responsabilité de l’installation des noues.</a:t>
            </a:r>
            <a:r>
              <a:rPr b="0" lang="fr-FR" sz="1200" spc="-1" strike="noStrike">
                <a:solidFill>
                  <a:srgbClr val="000000"/>
                </a:solidFill>
                <a:latin typeface="Times New Roman"/>
              </a:rPr>
              <a:t> </a:t>
            </a: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Entretie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es noues sont à entretenir comme des espaces verts. Celles-ci disposant de pentes faibles, un</a:t>
            </a:r>
            <a:endParaRPr b="0" lang="en-US" sz="1200" spc="-1" strike="noStrike">
              <a:solidFill>
                <a:srgbClr val="000000"/>
              </a:solidFill>
              <a:latin typeface="Times New Roman"/>
            </a:endParaRPr>
          </a:p>
        </p:txBody>
      </p:sp>
      <p:sp>
        <p:nvSpPr>
          <p:cNvPr id="43" name=""/>
          <p:cNvSpPr/>
          <p:nvPr/>
        </p:nvSpPr>
        <p:spPr>
          <a:xfrm>
            <a:off x="685800" y="838080"/>
            <a:ext cx="320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43400" y="5638680"/>
            <a:ext cx="3276720" cy="495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tretien à la tondeuse peut aisément être pratiqué. Il convient également de réaliser un ramassage des feuilles, voire un remplacement de sable si nécessaire le cas échéa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Conception</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conçue dans la partie superficielle du sol (0,30 à 0,60 m de profondeur), et présente des pentes de l’ordre de 20 à 25 %. Les talus doivent être stabilisé par végétalisation (gazon résistant à l’eau et à l’arrachement, végétaux dont le système racinaire permet une stabilisation du sol) ou autre méthode (géogrille, enrochemen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peut également être utilisée avec du sable ou du gravier en fond, voir une drain de collecte afin d’acheminer les eaux vers un exutoire spécifiqu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canalisation d’amenée des eaux dans la noue doit être pourvue d’une protection afin d’éviter toute intrusion. De même, d’éventuelles cloisons doivent être présentes si la pente du terrain est trop importante.</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533520" y="1828800"/>
            <a:ext cx="243828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47" name=""/>
          <p:cNvSpPr/>
          <p:nvPr/>
        </p:nvSpPr>
        <p:spPr>
          <a:xfrm>
            <a:off x="4267080" y="6019920"/>
            <a:ext cx="327672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66600" y="3294000"/>
            <a:ext cx="8001000" cy="1278000"/>
          </a:xfrm>
          <a:prstGeom prst="rect">
            <a:avLst/>
          </a:prstGeom>
          <a:noFill/>
          <a:ln w="0">
            <a:noFill/>
          </a:ln>
        </p:spPr>
        <p:style>
          <a:lnRef idx="0"/>
          <a:fillRef idx="0"/>
          <a:effectRef idx="0"/>
          <a:fontRef idx="minor"/>
        </p:style>
        <p:txBody>
          <a:bodyPr lIns="900000" rIns="900000" tIns="6840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66600" y="4754520"/>
            <a:ext cx="800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50" name=""/>
          <p:cNvSpPr/>
          <p:nvPr/>
        </p:nvSpPr>
        <p:spPr>
          <a:xfrm>
            <a:off x="66600" y="5394240"/>
            <a:ext cx="8001000" cy="360"/>
          </a:xfrm>
          <a:prstGeom prst="rect">
            <a:avLst/>
          </a:prstGeom>
          <a:noFill/>
          <a:ln w="0">
            <a:noFill/>
          </a:ln>
        </p:spPr>
        <p:style>
          <a:lnRef idx="0"/>
          <a:fillRef idx="0"/>
          <a:effectRef idx="0"/>
          <a:fontRef idx="minor"/>
        </p:style>
        <p:txBody>
          <a:bodyPr lIns="899640" rIns="899640" tIns="-899280" bIns="-899280" anchor="t">
            <a:spAutoFit/>
          </a:bodyPr>
          <a:p>
            <a:endParaRPr b="0" lang="en-US" sz="2400" spc="-1" strike="noStrike">
              <a:solidFill>
                <a:srgbClr val="000000"/>
              </a:solidFill>
              <a:latin typeface="Times New Roman"/>
            </a:endParaRPr>
          </a:p>
        </p:txBody>
      </p:sp>
      <p:pic>
        <p:nvPicPr>
          <p:cNvPr id="51" name="Noue 3" descr=""/>
          <p:cNvPicPr/>
          <p:nvPr/>
        </p:nvPicPr>
        <p:blipFill>
          <a:blip r:embed="rId1"/>
          <a:stretch/>
        </p:blipFill>
        <p:spPr>
          <a:xfrm>
            <a:off x="457200" y="990720"/>
            <a:ext cx="3809880" cy="2921040"/>
          </a:xfrm>
          <a:prstGeom prst="rect">
            <a:avLst/>
          </a:prstGeom>
          <a:ln w="0">
            <a:noFill/>
          </a:ln>
        </p:spPr>
      </p:pic>
      <p:pic>
        <p:nvPicPr>
          <p:cNvPr id="52" name="" descr=""/>
          <p:cNvPicPr/>
          <p:nvPr/>
        </p:nvPicPr>
        <p:blipFill>
          <a:blip r:embed="rId2"/>
          <a:stretch/>
        </p:blipFill>
        <p:spPr>
          <a:xfrm>
            <a:off x="4495680" y="3352680"/>
            <a:ext cx="3124440" cy="2298960"/>
          </a:xfrm>
          <a:prstGeom prst="rect">
            <a:avLst/>
          </a:prstGeom>
          <a:ln w="0">
            <a:noFill/>
          </a:ln>
        </p:spPr>
      </p:pic>
      <p:pic>
        <p:nvPicPr>
          <p:cNvPr id="53" name="Noue 4" descr=""/>
          <p:cNvPicPr/>
          <p:nvPr/>
        </p:nvPicPr>
        <p:blipFill>
          <a:blip r:embed="rId3"/>
          <a:stretch/>
        </p:blipFill>
        <p:spPr>
          <a:xfrm>
            <a:off x="4572000" y="990720"/>
            <a:ext cx="2971800" cy="2270160"/>
          </a:xfrm>
          <a:prstGeom prst="rect">
            <a:avLst/>
          </a:prstGeom>
          <a:ln w="0">
            <a:noFill/>
          </a:ln>
        </p:spPr>
      </p:pic>
      <p:sp>
        <p:nvSpPr>
          <p:cNvPr id="54" name=""/>
          <p:cNvSpPr/>
          <p:nvPr/>
        </p:nvSpPr>
        <p:spPr>
          <a:xfrm>
            <a:off x="66600" y="5394240"/>
            <a:ext cx="800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66ff"/>
                </a:solidFill>
                <a:latin typeface="Arial Unicode MS"/>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NOUE D’INFILTRATION</a:t>
            </a:r>
            <a:endParaRPr b="0" lang="en-US" sz="2200" spc="-1" strike="noStrike">
              <a:solidFill>
                <a:srgbClr val="000000"/>
              </a:solidFill>
              <a:latin typeface="Times New Roman"/>
            </a:endParaRPr>
          </a:p>
        </p:txBody>
      </p:sp>
      <p:sp>
        <p:nvSpPr>
          <p:cNvPr id="57" name=""/>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8" name=""/>
          <p:cNvSpPr/>
          <p:nvPr/>
        </p:nvSpPr>
        <p:spPr>
          <a:xfrm>
            <a:off x="533520" y="914400"/>
            <a:ext cx="72388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Times New Roman"/>
                <a:ea typeface="Arial Unicode MS"/>
              </a:rPr>
              <a:t>Dimensionnement</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Rétention et/ou exutoire des eaux pluvia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est dimensionnée en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s conditions météorologiques locales (données Météo France), sur une pluie de retour déterminée par le Maître d’Ouvrage (10 ; 30 ; 50an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surface de ruissellement recueillant les eaux précipité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fuite de l’ouvrage, si le rôle majeur de l’ouvrage est la réten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du sol à infiltrer les eaux.</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Arial Unicode MS"/>
              </a:rPr>
              <a:t>Exutoire des eaux usées traité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En cas d’absence d’exutoire pour le rejet de filières drainées des dispositifs d’assainissement non collectif, il est possible de réaliser, en partie superficielle du sol, là où la perméabilité est généralement plus importante qu’en profondeur, une aire d’infiltration des eaux. Celle-ci est donc foncti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volume journalier (V j) d’eaux usées traitées issues du dispositif d’assainissement (150 litres/personne), déterminé en fonction du nombre de pièces princip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u débit de pointe (Q p) issu du dispositif d’assainissement (V j / 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t>
            </a: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Arial Unicode MS"/>
              </a:rPr>
              <a:t>de la perméabilité K du sol à la base de la nou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Ainsi, la surface utile est égale au rapport du débit journalier sur la perméabilité. Le tableau ci-dessous illustre les surfaces utiles en fonction du nombre de pièces principales (PP), pour un flux continu (écoulement gravita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533520" y="9144000"/>
            <a:ext cx="7238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 </a:t>
            </a:r>
            <a:r>
              <a:rPr b="1" lang="fr-FR" sz="1200" spc="-1" strike="noStrike">
                <a:solidFill>
                  <a:srgbClr val="3333cc"/>
                </a:solidFill>
                <a:latin typeface="Times New Roman"/>
                <a:ea typeface="Arial Unicode MS"/>
              </a:rPr>
              <a:t>Avantages et inconvénient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La noue d’infiltration a les avantages d’être un exutoire naturel (utilisation du sol en place) avec une très bonne intégration paysagère permettant la réalimentation des nappes. Son concept est simple et peu coûteux, et permet la rétention, la régulation, le stockage, l’écrêtement et/ou la suppression des débits et également une dépollution efficace des eaux pluviales par décantation et par filtration naturel via le sol et la flor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Arial Unicode MS"/>
              </a:rPr>
              <a:t>Cependant, son emprise au sol peut être relativement importante, et présente un risque de pollution du sol selon le type d’eau à infiltrer. Cette technique demande un entretien régulier, avec risque de nuisances olfactives, et reste sensible aux détériorations liées au stationnement et au franchissement.</a:t>
            </a:r>
            <a:endParaRPr b="0" lang="en-US" sz="1200" spc="-1" strike="noStrike">
              <a:solidFill>
                <a:srgbClr val="000000"/>
              </a:solidFill>
              <a:latin typeface="Times New Roman"/>
            </a:endParaRPr>
          </a:p>
        </p:txBody>
      </p:sp>
      <p:graphicFrame>
        <p:nvGraphicFramePr>
          <p:cNvPr id="60" name=""/>
          <p:cNvGraphicFramePr/>
          <p:nvPr/>
        </p:nvGraphicFramePr>
        <p:xfrm>
          <a:off x="457200" y="5105520"/>
          <a:ext cx="7124760" cy="2939760"/>
        </p:xfrm>
        <a:graphic>
          <a:graphicData uri="http://schemas.openxmlformats.org/drawingml/2006/table">
            <a:tbl>
              <a:tblPr/>
              <a:tblGrid>
                <a:gridCol w="890640"/>
                <a:gridCol w="890640"/>
                <a:gridCol w="890640"/>
                <a:gridCol w="890640"/>
                <a:gridCol w="890640"/>
                <a:gridCol w="890280"/>
                <a:gridCol w="890640"/>
                <a:gridCol w="890640"/>
              </a:tblGrid>
              <a:tr h="2764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mbre de PP</a:t>
                      </a:r>
                      <a:r>
                        <a:rPr b="0" lang="en-US"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noFill/>
                  </a:tcPr>
                </a:tc>
              </a:tr>
              <a:tr h="703080">
                <a:tc>
                  <a:txBody>
                    <a:bodyPr lIns="38160" rIns="3816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ea typeface="Times New Roman"/>
                        </a:rPr>
                        <a:t>Nb de chambres</a:t>
                      </a:r>
                      <a:br>
                        <a:rPr sz="1000"/>
                      </a:br>
                      <a:r>
                        <a:rPr b="1" lang="fr-FR" sz="1000" spc="-1" strike="noStrike">
                          <a:solidFill>
                            <a:srgbClr val="000000"/>
                          </a:solidFill>
                          <a:latin typeface="Times New Roman"/>
                          <a:ea typeface="Times New Roman"/>
                        </a:rPr>
                        <a:t>(1,5 EH / chambre)</a:t>
                      </a:r>
                      <a:r>
                        <a:rPr b="0" lang="fr-FR" sz="1000" spc="-1" strike="noStrike">
                          <a:solidFill>
                            <a:srgbClr val="000000"/>
                          </a:solidFill>
                          <a:latin typeface="Times New Roman"/>
                        </a:rPr>
                        <a:t> </a:t>
                      </a:r>
                      <a:endParaRPr b="0" lang="en-US" sz="10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V j (m</a:t>
                      </a:r>
                      <a:r>
                        <a:rPr b="1" lang="nl-NL" sz="1200" spc="-1" strike="noStrike" baseline="30000">
                          <a:solidFill>
                            <a:srgbClr val="000000"/>
                          </a:solidFill>
                          <a:latin typeface="Times New Roman"/>
                          <a:ea typeface="Times New Roman"/>
                        </a:rPr>
                        <a:t>3</a:t>
                      </a:r>
                      <a:r>
                        <a:rPr b="1" lang="nl-NL" sz="1200" spc="-1" strike="noStrike">
                          <a:solidFill>
                            <a:srgbClr val="000000"/>
                          </a:solidFill>
                          <a:latin typeface="Times New Roman"/>
                          <a:ea typeface="Times New Roman"/>
                        </a:rPr>
                        <a:t>)</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0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1,12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50</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Q p (m</a:t>
                      </a:r>
                      <a:r>
                        <a:rPr b="1" lang="de-DE" sz="1200" spc="-1" strike="noStrike" baseline="30000">
                          <a:solidFill>
                            <a:srgbClr val="000000"/>
                          </a:solidFill>
                          <a:latin typeface="Times New Roman"/>
                          <a:ea typeface="Times New Roman"/>
                        </a:rPr>
                        <a:t>3</a:t>
                      </a:r>
                      <a:r>
                        <a:rPr b="1" lang="de-DE" sz="1200" spc="-1" strike="noStrike">
                          <a:solidFill>
                            <a:srgbClr val="000000"/>
                          </a:solidFill>
                          <a:latin typeface="Times New Roman"/>
                          <a:ea typeface="Times New Roman"/>
                        </a:rPr>
                        <a:t>/h)</a:t>
                      </a:r>
                      <a:r>
                        <a:rPr b="0" lang="fr-FR"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9</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07080">
                <a:tc gridSpan="8">
                  <a:txBody>
                    <a:bodyPr lIns="38160" rIns="3816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rface utile de la noue (m</a:t>
                      </a:r>
                      <a:r>
                        <a:rPr b="1" lang="en-US" sz="1200" spc="-1" strike="noStrike" baseline="30000">
                          <a:solidFill>
                            <a:srgbClr val="000000"/>
                          </a:solidFill>
                          <a:latin typeface="Times New Roman"/>
                          <a:ea typeface="Times New Roman"/>
                        </a:rPr>
                        <a:t>2</a:t>
                      </a:r>
                      <a:r>
                        <a:rPr b="1" lang="en-US" sz="1200" spc="-1" strike="noStrike">
                          <a:solidFill>
                            <a:srgbClr val="000000"/>
                          </a:solidFill>
                          <a:latin typeface="Times New Roman"/>
                          <a:ea typeface="Times New Roman"/>
                        </a:rPr>
                        <a:t>) en fonction de la perméabilité (mm/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38160" marR="3816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lt;K&lt;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 à 7,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à 11,5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5 à 15,5</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7 à 18,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7 à 22,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 à 26</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0</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lt;K&lt;3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à  3,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 à 7,7</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 à 7,7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7 à 9,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7 à 11,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à 13</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à 15</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38160" rIns="3816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lt;K&lt;50</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à 2,2</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 à  3,4</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à 4,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 à 5,6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4 à  6,8</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à 7,8 </a:t>
                      </a:r>
                      <a:endParaRPr b="0" lang="en-US" sz="1200" spc="-1" strike="noStrike">
                        <a:solidFill>
                          <a:srgbClr val="000000"/>
                        </a:solidFill>
                        <a:latin typeface="Times New Roman"/>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à  9</a:t>
                      </a:r>
                      <a:endParaRPr b="0" lang="en-US" sz="1200" spc="-1" strike="noStrike">
                        <a:solidFill>
                          <a:srgbClr val="000000"/>
                        </a:solidFill>
                        <a:latin typeface="Times New Roman"/>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
          <p:cNvSpPr/>
          <p:nvPr/>
        </p:nvSpPr>
        <p:spPr>
          <a:xfrm>
            <a:off x="533520" y="8229600"/>
            <a:ext cx="71625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tion : Le dimensionnement de la noue d’infiltration ne peut se réaliser qu’en fonction de la perméabilité du sol. Pour un apport massif en eau (provenant d’un poste de relevage par exemple), une étude plus détaillée doit être réalisé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Cédric Poulayn</cp:lastModifiedBy>
  <dcterms:modified xsi:type="dcterms:W3CDTF">2010-08-18T09:01:55Z</dcterms:modified>
  <cp:revision>28</cp:revision>
  <dc:subject/>
  <dc:title>FOSSE TOUTES EAUX</dc:title>
</cp:coreProperties>
</file>