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002588" cy="113141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719-8875-4F29-8C3F-3B8D335C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DBE-497D-4667-9E9F-7B8FE019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B3E-B169-430F-83FE-E1EDA1B8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243-31C1-45D5-8D9E-44E2D0BE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C9B-BFD1-4C54-AC74-01A556E2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F12-7598-48C3-855F-6F71012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12B-D75F-4B82-AB3B-ADFFAD4D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E97-3015-4C82-AE4A-F270941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4FF-7602-4D45-B775-B8257C3B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104-48A0-4834-A116-F807D88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DAA-3885-4A63-8BB7-7246185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A63-10D6-40DF-A1F2-ABF4428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61A8-43AD-49B9-B90C-C873A1F30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304920" y="7848720"/>
            <a:ext cx="3429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 tertre d’infiltration drainé est un dispositif hors sol qui nécessite généralement le relevage des eaux prétraitées. Il utilise le sable comme système épurateur. L’exutoire pouvant recevoir l’effluent traité sera soumis à autorisation auprès des autorit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ndition de mise en œuv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la création du tertre d’infiltration, le sol en place est décapé sur 10 cm de profondeur minimum pour ancrer le massif filtrant. Il y a également la possibilité de rehausser le niveau du terrain naturel pour mettre hors zone inondable ou bien de l’enterré de plus de 10 cm pour des raisons techniques et esthét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s les matériaux utilisés pour la mise en place d’un assainissement non collectif, doivent répondre aux normes fixées par le DTU 64-1.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3962520" y="8001000"/>
            <a:ext cx="37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gle entre le sol naturel horizontal et les parois du tertre doit être inférieur à 30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tertre d’infiltration est un massif sableux sous le niveau de la canalisation et se compos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film impermé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10 m de graviers roul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/ géogril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70 m de sable siliceux la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graviers roulés lav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 géotextile perméable à l’eau et à l’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une couche de 0,20 m de terre végé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Dimensionnemen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surface minimale du tertre au sommet est de 20 m² pour 4 pièces principales puis majorées de 5 m² par pièce supplément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21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2"/>
          <p:cNvGrpSpPr/>
          <p:nvPr/>
        </p:nvGrpSpPr>
        <p:grpSpPr>
          <a:xfrm>
            <a:off x="266760" y="914400"/>
            <a:ext cx="7467480" cy="6953400"/>
            <a:chOff x="266760" y="914400"/>
            <a:chExt cx="7467480" cy="6953400"/>
          </a:xfrm>
        </p:grpSpPr>
        <p:graphicFrame>
          <p:nvGraphicFramePr>
            <p:cNvPr id="47" name="Object 18"/>
            <p:cNvGraphicFramePr/>
            <p:nvPr/>
          </p:nvGraphicFramePr>
          <p:xfrm>
            <a:off x="266760" y="914400"/>
            <a:ext cx="7467480" cy="695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60" y="914400"/>
                      <a:ext cx="7467480" cy="695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Rectangle 19"/>
            <p:cNvSpPr/>
            <p:nvPr/>
          </p:nvSpPr>
          <p:spPr>
            <a:xfrm>
              <a:off x="4000680" y="723888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5638680" y="5657760"/>
              <a:ext cx="3049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Line 23"/>
          <p:cNvSpPr/>
          <p:nvPr/>
        </p:nvSpPr>
        <p:spPr>
          <a:xfrm flipV="1">
            <a:off x="380988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4"/>
          <p:cNvSpPr/>
          <p:nvPr/>
        </p:nvSpPr>
        <p:spPr>
          <a:xfrm>
            <a:off x="3809880" y="152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191120" y="144792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1905120" y="1143000"/>
            <a:ext cx="1218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Fosse toutes eaux avec préfiltre incorpor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4267080" y="1066680"/>
            <a:ext cx="10670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4648320" y="1371600"/>
            <a:ext cx="1143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ntilation secondaire avec extracteur statique ou éol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2133720" y="30481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répar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6477120" y="3962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pl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6019920" y="4419720"/>
            <a:ext cx="167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’épandag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6477120" y="41911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2 coudes à 45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228600" y="43434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assif recompos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6324480" y="586728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uyaux de collecte perfo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6324480" y="6553080"/>
            <a:ext cx="1295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bouc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6"/>
          <p:cNvSpPr/>
          <p:nvPr/>
        </p:nvSpPr>
        <p:spPr>
          <a:xfrm>
            <a:off x="5943600" y="739152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oite de collec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7"/>
          <p:cNvSpPr/>
          <p:nvPr/>
        </p:nvSpPr>
        <p:spPr>
          <a:xfrm>
            <a:off x="1981080" y="762012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Vers exuto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304920" y="73152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Pente du talus : 1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533520" y="472428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erre végét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228600"/>
            <a:ext cx="6858000" cy="533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Times New Roman"/>
              </a:rPr>
              <a:t>TERTRE D’INFILTRATION DRA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05120" y="11049120"/>
            <a:ext cx="4190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2b2b2"/>
                </a:solidFill>
                <a:latin typeface="Times New Roman"/>
              </a:rPr>
              <a:t>Propriété d’AMODIAG Environnement. Reproduction interdite. Créé en Mai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0" y="990720"/>
            <a:ext cx="1600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52"/>
          <p:cNvGrpSpPr/>
          <p:nvPr/>
        </p:nvGrpSpPr>
        <p:grpSpPr>
          <a:xfrm>
            <a:off x="0" y="838080"/>
            <a:ext cx="8001000" cy="3348000"/>
            <a:chOff x="0" y="838080"/>
            <a:chExt cx="8001000" cy="3348000"/>
          </a:xfrm>
        </p:grpSpPr>
        <p:grpSp>
          <p:nvGrpSpPr>
            <p:cNvPr id="72" name="Group 45"/>
            <p:cNvGrpSpPr/>
            <p:nvPr/>
          </p:nvGrpSpPr>
          <p:grpSpPr>
            <a:xfrm>
              <a:off x="0" y="838080"/>
              <a:ext cx="8001000" cy="3348000"/>
              <a:chOff x="0" y="838080"/>
              <a:chExt cx="8001000" cy="3348000"/>
            </a:xfrm>
          </p:grpSpPr>
          <p:grpSp>
            <p:nvGrpSpPr>
              <p:cNvPr id="73" name="Group 43"/>
              <p:cNvGrpSpPr/>
              <p:nvPr/>
            </p:nvGrpSpPr>
            <p:grpSpPr>
              <a:xfrm>
                <a:off x="0" y="838080"/>
                <a:ext cx="8001000" cy="3348000"/>
                <a:chOff x="0" y="838080"/>
                <a:chExt cx="8001000" cy="3348000"/>
              </a:xfrm>
            </p:grpSpPr>
            <p:grpSp>
              <p:nvGrpSpPr>
                <p:cNvPr id="74" name="Group 41"/>
                <p:cNvGrpSpPr/>
                <p:nvPr/>
              </p:nvGrpSpPr>
              <p:grpSpPr>
                <a:xfrm>
                  <a:off x="0" y="838080"/>
                  <a:ext cx="8001000" cy="3348000"/>
                  <a:chOff x="0" y="838080"/>
                  <a:chExt cx="8001000" cy="3348000"/>
                </a:xfrm>
              </p:grpSpPr>
              <p:pic>
                <p:nvPicPr>
                  <p:cNvPr id="75" name="Picture 24" descr=""/>
                  <p:cNvPicPr/>
                  <p:nvPr/>
                </p:nvPicPr>
                <p:blipFill>
                  <a:blip r:embed="rId1"/>
                  <a:srcRect l="0" t="4022" r="8583" b="0"/>
                  <a:stretch/>
                </p:blipFill>
                <p:spPr>
                  <a:xfrm>
                    <a:off x="9360" y="914040"/>
                    <a:ext cx="776304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6" name="Rectangle 26"/>
                  <p:cNvSpPr/>
                  <p:nvPr/>
                </p:nvSpPr>
                <p:spPr>
                  <a:xfrm>
                    <a:off x="304920" y="1523880"/>
                    <a:ext cx="251460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réparti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27"/>
                  <p:cNvSpPr/>
                  <p:nvPr/>
                </p:nvSpPr>
                <p:spPr>
                  <a:xfrm>
                    <a:off x="5867280" y="83808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Rectangle 28"/>
                  <p:cNvSpPr/>
                  <p:nvPr/>
                </p:nvSpPr>
                <p:spPr>
                  <a:xfrm>
                    <a:off x="6019920" y="1066680"/>
                    <a:ext cx="1981080" cy="3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uyau d’épandage perforé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Rectangle 29"/>
                  <p:cNvSpPr/>
                  <p:nvPr/>
                </p:nvSpPr>
                <p:spPr>
                  <a:xfrm>
                    <a:off x="5867280" y="1447560"/>
                    <a:ext cx="198144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boucl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Rectangle 30"/>
                  <p:cNvSpPr/>
                  <p:nvPr/>
                </p:nvSpPr>
                <p:spPr>
                  <a:xfrm>
                    <a:off x="5943600" y="1676160"/>
                    <a:ext cx="1905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oite de collec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Rectangle 31"/>
                  <p:cNvSpPr/>
                  <p:nvPr/>
                </p:nvSpPr>
                <p:spPr>
                  <a:xfrm>
                    <a:off x="6629400" y="1981080"/>
                    <a:ext cx="12193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re végéta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Rectangle 32"/>
                  <p:cNvSpPr/>
                  <p:nvPr/>
                </p:nvSpPr>
                <p:spPr>
                  <a:xfrm>
                    <a:off x="6553080" y="2209680"/>
                    <a:ext cx="12193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lm imperméable facultati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Rectangle 33"/>
                  <p:cNvSpPr/>
                  <p:nvPr/>
                </p:nvSpPr>
                <p:spPr>
                  <a:xfrm>
                    <a:off x="6781680" y="2514240"/>
                    <a:ext cx="1067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 ou 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Rectangle 34"/>
                  <p:cNvSpPr/>
                  <p:nvPr/>
                </p:nvSpPr>
                <p:spPr>
                  <a:xfrm>
                    <a:off x="7010280" y="3200040"/>
                    <a:ext cx="762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ers exutoi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Rectangle 38"/>
                  <p:cNvSpPr/>
                  <p:nvPr/>
                </p:nvSpPr>
                <p:spPr>
                  <a:xfrm>
                    <a:off x="0" y="2361960"/>
                    <a:ext cx="99072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mpe de relevag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si nécessaire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Rectangle 40"/>
                  <p:cNvSpPr/>
                  <p:nvPr/>
                </p:nvSpPr>
                <p:spPr>
                  <a:xfrm>
                    <a:off x="0" y="3428640"/>
                    <a:ext cx="68580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Rectangle 39"/>
                  <p:cNvSpPr/>
                  <p:nvPr/>
                </p:nvSpPr>
                <p:spPr>
                  <a:xfrm>
                    <a:off x="228600" y="35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rrivé FT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Rectangle 42"/>
                <p:cNvSpPr/>
                <p:nvPr/>
              </p:nvSpPr>
              <p:spPr>
                <a:xfrm>
                  <a:off x="152280" y="838080"/>
                  <a:ext cx="2133720" cy="60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Rectangle 44"/>
              <p:cNvSpPr/>
              <p:nvPr/>
            </p:nvSpPr>
            <p:spPr>
              <a:xfrm>
                <a:off x="3657600" y="3809880"/>
                <a:ext cx="11430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4 m minim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Rectangle 46"/>
            <p:cNvSpPr/>
            <p:nvPr/>
          </p:nvSpPr>
          <p:spPr>
            <a:xfrm>
              <a:off x="0" y="990360"/>
              <a:ext cx="327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upe longitudinale avec pompe de relevage (B-B’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48"/>
          <p:cNvSpPr/>
          <p:nvPr/>
        </p:nvSpPr>
        <p:spPr>
          <a:xfrm>
            <a:off x="0" y="434340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3333cc"/>
                </a:solidFill>
                <a:uFillTx/>
                <a:latin typeface="Times New Roman"/>
              </a:rPr>
              <a:t>Coupe longitudinale sans pompe de relevage (B-B’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5"/>
          <p:cNvGrpSpPr/>
          <p:nvPr/>
        </p:nvGrpSpPr>
        <p:grpSpPr>
          <a:xfrm>
            <a:off x="152280" y="4648320"/>
            <a:ext cx="7848720" cy="6171840"/>
            <a:chOff x="152280" y="4648320"/>
            <a:chExt cx="7848720" cy="6171840"/>
          </a:xfrm>
        </p:grpSpPr>
        <p:grpSp>
          <p:nvGrpSpPr>
            <p:cNvPr id="93" name="Group 63"/>
            <p:cNvGrpSpPr/>
            <p:nvPr/>
          </p:nvGrpSpPr>
          <p:grpSpPr>
            <a:xfrm>
              <a:off x="152280" y="4724640"/>
              <a:ext cx="7848720" cy="6095520"/>
              <a:chOff x="152280" y="4724640"/>
              <a:chExt cx="7848720" cy="6095520"/>
            </a:xfrm>
          </p:grpSpPr>
          <p:grpSp>
            <p:nvGrpSpPr>
              <p:cNvPr id="94" name="Group 50"/>
              <p:cNvGrpSpPr/>
              <p:nvPr/>
            </p:nvGrpSpPr>
            <p:grpSpPr>
              <a:xfrm>
                <a:off x="152280" y="7772760"/>
                <a:ext cx="7848720" cy="3047400"/>
                <a:chOff x="152280" y="7772760"/>
                <a:chExt cx="7848720" cy="3047400"/>
              </a:xfrm>
            </p:grpSpPr>
            <p:grpSp>
              <p:nvGrpSpPr>
                <p:cNvPr id="95" name="Group 23"/>
                <p:cNvGrpSpPr/>
                <p:nvPr/>
              </p:nvGrpSpPr>
              <p:grpSpPr>
                <a:xfrm>
                  <a:off x="380880" y="8001360"/>
                  <a:ext cx="7620120" cy="2818800"/>
                  <a:chOff x="380880" y="8001360"/>
                  <a:chExt cx="7620120" cy="2818800"/>
                </a:xfrm>
              </p:grpSpPr>
              <p:grpSp>
                <p:nvGrpSpPr>
                  <p:cNvPr id="96" name="Group 20"/>
                  <p:cNvGrpSpPr/>
                  <p:nvPr/>
                </p:nvGrpSpPr>
                <p:grpSpPr>
                  <a:xfrm>
                    <a:off x="380880" y="8001360"/>
                    <a:ext cx="7620120" cy="2818800"/>
                    <a:chOff x="380880" y="8001360"/>
                    <a:chExt cx="7620120" cy="2818800"/>
                  </a:xfrm>
                </p:grpSpPr>
                <p:pic>
                  <p:nvPicPr>
                    <p:cNvPr id="97" name="Picture 4" descr=""/>
                    <p:cNvPicPr/>
                    <p:nvPr/>
                  </p:nvPicPr>
                  <p:blipFill>
                    <a:blip r:embed="rId2"/>
                    <a:srcRect l="2388" t="3588" r="17085" b="0"/>
                    <a:stretch/>
                  </p:blipFill>
                  <p:spPr>
                    <a:xfrm>
                      <a:off x="380880" y="8001360"/>
                      <a:ext cx="7543800" cy="26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" name="Line 5"/>
                    <p:cNvSpPr/>
                    <p:nvPr/>
                  </p:nvSpPr>
                  <p:spPr>
                    <a:xfrm flipV="1">
                      <a:off x="1752480" y="8915040"/>
                      <a:ext cx="91440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Rectangle 6"/>
                    <p:cNvSpPr/>
                    <p:nvPr/>
                  </p:nvSpPr>
                  <p:spPr>
                    <a:xfrm>
                      <a:off x="838080" y="8839080"/>
                      <a:ext cx="91440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iers roulés lavés (10-40 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Line 8"/>
                    <p:cNvSpPr/>
                    <p:nvPr/>
                  </p:nvSpPr>
                  <p:spPr>
                    <a:xfrm flipV="1">
                      <a:off x="5790960" y="9600840"/>
                      <a:ext cx="0" cy="914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9"/>
                    <p:cNvSpPr/>
                    <p:nvPr/>
                  </p:nvSpPr>
                  <p:spPr>
                    <a:xfrm>
                      <a:off x="5790960" y="1051560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Rectangle 10"/>
                    <p:cNvSpPr/>
                    <p:nvPr/>
                  </p:nvSpPr>
                  <p:spPr>
                    <a:xfrm>
                      <a:off x="5943600" y="10363320"/>
                      <a:ext cx="1066680" cy="38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le siliceux lavé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Line 13"/>
                    <p:cNvSpPr/>
                    <p:nvPr/>
                  </p:nvSpPr>
                  <p:spPr>
                    <a:xfrm flipV="1">
                      <a:off x="1371600" y="10134360"/>
                      <a:ext cx="0" cy="456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14"/>
                    <p:cNvSpPr/>
                    <p:nvPr/>
                  </p:nvSpPr>
                  <p:spPr>
                    <a:xfrm>
                      <a:off x="1371600" y="1059192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Rectangle 15"/>
                    <p:cNvSpPr/>
                    <p:nvPr/>
                  </p:nvSpPr>
                  <p:spPr>
                    <a:xfrm>
                      <a:off x="1523880" y="10439280"/>
                      <a:ext cx="1295280" cy="380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m imperméable facult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Line 16"/>
                    <p:cNvSpPr/>
                    <p:nvPr/>
                  </p:nvSpPr>
                  <p:spPr>
                    <a:xfrm>
                      <a:off x="1371600" y="9296280"/>
                      <a:ext cx="228600" cy="685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Rectangle 17"/>
                    <p:cNvSpPr/>
                    <p:nvPr/>
                  </p:nvSpPr>
                  <p:spPr>
                    <a:xfrm>
                      <a:off x="7543800" y="9677520"/>
                      <a:ext cx="457200" cy="15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Rectangle 18"/>
                    <p:cNvSpPr/>
                    <p:nvPr/>
                  </p:nvSpPr>
                  <p:spPr>
                    <a:xfrm>
                      <a:off x="7010280" y="9753480"/>
                      <a:ext cx="76212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Line 19"/>
                    <p:cNvSpPr/>
                    <p:nvPr/>
                  </p:nvSpPr>
                  <p:spPr>
                    <a:xfrm>
                      <a:off x="7467480" y="967752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" name="Rectangle 21"/>
                  <p:cNvSpPr/>
                  <p:nvPr/>
                </p:nvSpPr>
                <p:spPr>
                  <a:xfrm>
                    <a:off x="7162560" y="10287000"/>
                    <a:ext cx="76212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gril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Rectangle 22"/>
                  <p:cNvSpPr/>
                  <p:nvPr/>
                </p:nvSpPr>
                <p:spPr>
                  <a:xfrm>
                    <a:off x="5790960" y="8153280"/>
                    <a:ext cx="213372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éotextil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Rectangle 49"/>
                <p:cNvSpPr/>
                <p:nvPr/>
              </p:nvSpPr>
              <p:spPr>
                <a:xfrm>
                  <a:off x="152280" y="7772760"/>
                  <a:ext cx="25146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 u="sng">
                      <a:solidFill>
                        <a:srgbClr val="3333cc"/>
                      </a:solidFill>
                      <a:uFillTx/>
                      <a:latin typeface="Times New Roman"/>
                    </a:rPr>
                    <a:t>Coupe transversale (A-A’) 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3" name="Picture 53" descr=""/>
              <p:cNvPicPr/>
              <p:nvPr/>
            </p:nvPicPr>
            <p:blipFill>
              <a:blip r:embed="rId3"/>
              <a:srcRect l="924" t="5748" r="8825" b="0"/>
              <a:stretch/>
            </p:blipFill>
            <p:spPr>
              <a:xfrm>
                <a:off x="152280" y="4724640"/>
                <a:ext cx="7467480" cy="257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54"/>
              <p:cNvSpPr/>
              <p:nvPr/>
            </p:nvSpPr>
            <p:spPr>
              <a:xfrm>
                <a:off x="4876560" y="4724640"/>
                <a:ext cx="1828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5"/>
              <p:cNvSpPr/>
              <p:nvPr/>
            </p:nvSpPr>
            <p:spPr>
              <a:xfrm>
                <a:off x="4952880" y="4953240"/>
                <a:ext cx="17524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uyau d’épandage perfor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6"/>
              <p:cNvSpPr/>
              <p:nvPr/>
            </p:nvSpPr>
            <p:spPr>
              <a:xfrm>
                <a:off x="5181480" y="5181840"/>
                <a:ext cx="16002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boucl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7"/>
              <p:cNvSpPr/>
              <p:nvPr/>
            </p:nvSpPr>
            <p:spPr>
              <a:xfrm>
                <a:off x="5333760" y="541044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Boite de collec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8"/>
              <p:cNvSpPr/>
              <p:nvPr/>
            </p:nvSpPr>
            <p:spPr>
              <a:xfrm>
                <a:off x="5715000" y="5791320"/>
                <a:ext cx="990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re végéta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9"/>
              <p:cNvSpPr/>
              <p:nvPr/>
            </p:nvSpPr>
            <p:spPr>
              <a:xfrm>
                <a:off x="6172200" y="6019920"/>
                <a:ext cx="1447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Film imperméable facultati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60"/>
              <p:cNvSpPr/>
              <p:nvPr/>
            </p:nvSpPr>
            <p:spPr>
              <a:xfrm>
                <a:off x="6476760" y="6248520"/>
                <a:ext cx="99072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texti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1"/>
              <p:cNvSpPr/>
              <p:nvPr/>
            </p:nvSpPr>
            <p:spPr>
              <a:xfrm>
                <a:off x="6629400" y="6477120"/>
                <a:ext cx="7617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Géogril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2"/>
              <p:cNvSpPr/>
              <p:nvPr/>
            </p:nvSpPr>
            <p:spPr>
              <a:xfrm>
                <a:off x="6705360" y="6858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Vers exuto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64"/>
            <p:cNvSpPr/>
            <p:nvPr/>
          </p:nvSpPr>
          <p:spPr>
            <a:xfrm>
              <a:off x="6705360" y="4648320"/>
              <a:ext cx="11430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5:27:08Z</dcterms:created>
  <dc:creator>Nathalie Chapron</dc:creator>
  <dc:description/>
  <dc:language>en-US</dc:language>
  <cp:lastModifiedBy>Achille Sailly</cp:lastModifiedBy>
  <dcterms:modified xsi:type="dcterms:W3CDTF">2014-02-11T10:31:53Z</dcterms:modified>
  <cp:revision>8</cp:revision>
  <dc:subject/>
  <dc:title>Présentation PowerPoint</dc:title>
</cp:coreProperties>
</file>