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embeddings/oleObject1.bin" ContentType="application/vnd.openxmlformats-officedocument.oleObject"/>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8002588" cy="11314113"/>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BCB831-85E6-4200-A903-3CE2651141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99760" y="1006200"/>
            <a:ext cx="6800760" cy="188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599760" y="3268800"/>
            <a:ext cx="680076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599760" y="6815520"/>
            <a:ext cx="680076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8F5E0E-9530-4386-98CD-D8807F3109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99760" y="1006200"/>
            <a:ext cx="6800760" cy="188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599760" y="3268800"/>
            <a:ext cx="331848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084560" y="3268800"/>
            <a:ext cx="331848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599760" y="6815520"/>
            <a:ext cx="331848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084560" y="6815520"/>
            <a:ext cx="331848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07B476-50A3-47B6-80A1-F1B2B596EC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99760" y="1006200"/>
            <a:ext cx="6800760" cy="188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599760" y="3268800"/>
            <a:ext cx="218952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2899080" y="3268800"/>
            <a:ext cx="218952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198400" y="3268800"/>
            <a:ext cx="218952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599760" y="6815520"/>
            <a:ext cx="218952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2899080" y="6815520"/>
            <a:ext cx="218952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198400" y="6815520"/>
            <a:ext cx="218952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59AAEA-083C-4527-9EDB-6F86D6452A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99760" y="1006200"/>
            <a:ext cx="6800760" cy="188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599760" y="3268800"/>
            <a:ext cx="6800760" cy="6789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084A48-F5EA-4361-95BA-F2CB7B1ABF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99760" y="1006200"/>
            <a:ext cx="6800760" cy="188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599760" y="3268800"/>
            <a:ext cx="6800760" cy="67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9C48AF-551F-432C-84E2-0DEAC87FAD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99760" y="1006200"/>
            <a:ext cx="6800760" cy="188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599760" y="3268800"/>
            <a:ext cx="3318480" cy="67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084560" y="3268800"/>
            <a:ext cx="3318480" cy="67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321EAA-7398-4374-B7D7-4937EC237E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99760" y="1006200"/>
            <a:ext cx="6800760" cy="188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9F50DE-7FFD-4674-88D1-0850E13B62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99760" y="1006200"/>
            <a:ext cx="6800760" cy="8743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E8FFD7-0F35-4C04-B040-63FD215916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99760" y="1006200"/>
            <a:ext cx="6800760" cy="188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599760" y="3268800"/>
            <a:ext cx="331848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084560" y="3268800"/>
            <a:ext cx="3318480" cy="67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599760" y="6815520"/>
            <a:ext cx="331848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CF1292-ED84-4B9A-929C-21FD6535F5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99760" y="1006200"/>
            <a:ext cx="6800760" cy="188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599760" y="3268800"/>
            <a:ext cx="3318480" cy="67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084560" y="3268800"/>
            <a:ext cx="331848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084560" y="6815520"/>
            <a:ext cx="331848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41516D-BF07-48F7-82B3-A395C32BBF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99760" y="1006200"/>
            <a:ext cx="6800760" cy="188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599760" y="3268800"/>
            <a:ext cx="331848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084560" y="3268800"/>
            <a:ext cx="331848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599760" y="6815520"/>
            <a:ext cx="680076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7D666F-B25E-4FC9-9FEE-04A4586FBD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99760" y="1006200"/>
            <a:ext cx="6800760" cy="188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599760" y="3268800"/>
            <a:ext cx="6800760" cy="67896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00120" y="10308960"/>
            <a:ext cx="1666800" cy="7556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733480" y="10308960"/>
            <a:ext cx="2533320" cy="7556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5734080" y="10308960"/>
            <a:ext cx="1666800" cy="7556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600B6D-4EB9-40B6-8985-0B06817FE6D7}" type="slidenum">
              <a:rPr b="0" lang="fr-F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533520" y="228600"/>
            <a:ext cx="6858000" cy="533520"/>
          </a:xfrm>
          <a:prstGeom prst="rect">
            <a:avLst/>
          </a:prstGeom>
          <a:solidFill>
            <a:srgbClr val="ccecff"/>
          </a:solidFill>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200" spc="-1" strike="noStrike">
                <a:solidFill>
                  <a:srgbClr val="000000"/>
                </a:solidFill>
                <a:latin typeface="Times New Roman"/>
              </a:rPr>
              <a:t>FOSSE SEPTIQUE</a:t>
            </a:r>
            <a:endParaRPr b="0" lang="en-US" sz="2200" spc="-1" strike="noStrike">
              <a:solidFill>
                <a:srgbClr val="000000"/>
              </a:solidFill>
              <a:latin typeface="Times New Roman"/>
            </a:endParaRPr>
          </a:p>
        </p:txBody>
      </p:sp>
      <p:sp>
        <p:nvSpPr>
          <p:cNvPr id="42" name=""/>
          <p:cNvSpPr/>
          <p:nvPr/>
        </p:nvSpPr>
        <p:spPr>
          <a:xfrm>
            <a:off x="1905120" y="11042640"/>
            <a:ext cx="4190760" cy="266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b2b2b2"/>
                </a:solidFill>
                <a:latin typeface="Times New Roman"/>
              </a:rPr>
              <a:t>Propriété d’AMODIAG Environnement. Reproduction interdite. Créé en Mai 2009</a:t>
            </a:r>
            <a:endParaRPr b="0" lang="en-US" sz="1000" spc="-1" strike="noStrike">
              <a:solidFill>
                <a:srgbClr val="000000"/>
              </a:solidFill>
              <a:latin typeface="Times New Roman"/>
            </a:endParaRPr>
          </a:p>
        </p:txBody>
      </p:sp>
      <p:sp>
        <p:nvSpPr>
          <p:cNvPr id="43" name=""/>
          <p:cNvSpPr/>
          <p:nvPr/>
        </p:nvSpPr>
        <p:spPr>
          <a:xfrm>
            <a:off x="304920" y="5943600"/>
            <a:ext cx="3276360" cy="487692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3333cc"/>
                </a:solidFill>
                <a:latin typeface="Times New Roman"/>
              </a:rPr>
              <a:t>L</a:t>
            </a:r>
            <a:r>
              <a:rPr b="0" lang="fr-FR" sz="1200" spc="-1" strike="noStrike">
                <a:solidFill>
                  <a:srgbClr val="000000"/>
                </a:solidFill>
                <a:latin typeface="Times New Roman"/>
              </a:rPr>
              <a:t>a fosse septique ressemble schématiquement à la fosse toute eaux (FTE) mais elle ne possède pas obligatoirement de préfiltre en sortie de fosse. Dans ce cas, il sera nécessaire d’implanter un préfiltre qui collectera les eaux en sortie de FTE.</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D’un point de vue fonctionnement, la fosse septique ne doit recevoir que les eaux vannes (des toilettes) car elle ne retient pas les graisses. Dans le cas où la fosse septique reçoit quand même toutes les eaux usées de l’habitation, un bac dégraisseur devra être installé en amont pour retenir les graisse et les huiles.</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a présence du bac dégraisseur est très importante car il évitera le colmatage des drains par les graisses.</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Tout comme la FTE, la fosse septique devra être munie d’une ventilation primaire et secondaire, et devra être vidangé au moins tous les 4 ans via les tampons accessibles au dessus de l’ouvrage.</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De plus, la fosse septique, tout comme la FTE, devra être située en zone non carrossable pour limiter le déplacement des ouvrages.</a:t>
            </a:r>
            <a:endParaRPr b="0" lang="en-US" sz="1200" spc="-1" strike="noStrike">
              <a:solidFill>
                <a:srgbClr val="000000"/>
              </a:solidFill>
              <a:latin typeface="Times New Roman"/>
            </a:endParaRPr>
          </a:p>
        </p:txBody>
      </p:sp>
      <p:sp>
        <p:nvSpPr>
          <p:cNvPr id="44" name=""/>
          <p:cNvSpPr/>
          <p:nvPr/>
        </p:nvSpPr>
        <p:spPr>
          <a:xfrm>
            <a:off x="4419720" y="9220320"/>
            <a:ext cx="3276360" cy="106668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u="sng">
                <a:solidFill>
                  <a:srgbClr val="3333cc"/>
                </a:solidFill>
                <a:uFillTx/>
                <a:latin typeface="Times New Roman"/>
              </a:rPr>
              <a:t>Dimensionnement :</a:t>
            </a:r>
            <a:r>
              <a:rPr b="0" lang="fr-FR" sz="1200" spc="-1" strike="noStrike">
                <a:solidFill>
                  <a:srgbClr val="000000"/>
                </a:solidFill>
                <a:latin typeface="Times New Roman"/>
              </a:rPr>
              <a:t> </a:t>
            </a:r>
            <a:endParaRPr b="0" lang="en-US" sz="1200" spc="-1" strike="noStrike">
              <a:solidFill>
                <a:srgbClr val="0000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Habitation de 5 pièces principales : 1,5 m</a:t>
            </a:r>
            <a:r>
              <a:rPr b="0" lang="fr-FR" sz="1200" spc="-1" strike="noStrike" baseline="30000">
                <a:solidFill>
                  <a:srgbClr val="000000"/>
                </a:solidFill>
                <a:latin typeface="Times New Roman"/>
              </a:rPr>
              <a:t>3</a:t>
            </a:r>
            <a:endParaRPr b="0" lang="en-US" sz="1200" spc="-1" strike="noStrike">
              <a:solidFill>
                <a:srgbClr val="0000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Habitation de 6 pièces principales : 2 m</a:t>
            </a:r>
            <a:r>
              <a:rPr b="0" lang="fr-FR" sz="1200" spc="-1" strike="noStrike" baseline="30000">
                <a:solidFill>
                  <a:srgbClr val="000000"/>
                </a:solidFill>
                <a:latin typeface="Times New Roman"/>
              </a:rPr>
              <a:t>3</a:t>
            </a:r>
            <a:endParaRPr b="0" lang="en-US" sz="1200" spc="-1" strike="noStrike">
              <a:solidFill>
                <a:srgbClr val="0000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Habitation de 7 pièces principales : 2,5 m</a:t>
            </a:r>
            <a:r>
              <a:rPr b="0" lang="fr-FR" sz="1200" spc="-1" strike="noStrike" baseline="30000">
                <a:solidFill>
                  <a:srgbClr val="000000"/>
                </a:solidFill>
                <a:latin typeface="Times New Roman"/>
              </a:rPr>
              <a:t>3</a:t>
            </a:r>
            <a:endParaRPr b="0" lang="en-US" sz="1200" spc="-1" strike="noStrike">
              <a:solidFill>
                <a:srgbClr val="000000"/>
              </a:solidFill>
              <a:latin typeface="Times New Roman"/>
            </a:endParaRPr>
          </a:p>
        </p:txBody>
      </p:sp>
      <p:pic>
        <p:nvPicPr>
          <p:cNvPr id="45" name="fosse2" descr=""/>
          <p:cNvPicPr/>
          <p:nvPr/>
        </p:nvPicPr>
        <p:blipFill>
          <a:blip r:embed="rId1"/>
          <a:srcRect l="0" t="0" r="0" b="6798"/>
          <a:stretch/>
        </p:blipFill>
        <p:spPr>
          <a:xfrm>
            <a:off x="152280" y="1600200"/>
            <a:ext cx="7315200" cy="3657600"/>
          </a:xfrm>
          <a:prstGeom prst="rect">
            <a:avLst/>
          </a:prstGeom>
          <a:ln w="0">
            <a:noFill/>
          </a:ln>
        </p:spPr>
      </p:pic>
      <p:grpSp>
        <p:nvGrpSpPr>
          <p:cNvPr id="46" name=""/>
          <p:cNvGrpSpPr/>
          <p:nvPr/>
        </p:nvGrpSpPr>
        <p:grpSpPr>
          <a:xfrm>
            <a:off x="4191120" y="5334120"/>
            <a:ext cx="3238200" cy="3962160"/>
            <a:chOff x="4191120" y="5334120"/>
            <a:chExt cx="3238200" cy="3962160"/>
          </a:xfrm>
        </p:grpSpPr>
        <p:grpSp>
          <p:nvGrpSpPr>
            <p:cNvPr id="47" name=""/>
            <p:cNvGrpSpPr/>
            <p:nvPr/>
          </p:nvGrpSpPr>
          <p:grpSpPr>
            <a:xfrm>
              <a:off x="4191120" y="5334120"/>
              <a:ext cx="3238200" cy="3962160"/>
              <a:chOff x="4191120" y="5334120"/>
              <a:chExt cx="3238200" cy="3962160"/>
            </a:xfrm>
          </p:grpSpPr>
          <p:graphicFrame>
            <p:nvGraphicFramePr>
              <p:cNvPr id="48" name=""/>
              <p:cNvGraphicFramePr/>
              <p:nvPr/>
            </p:nvGraphicFramePr>
            <p:xfrm>
              <a:off x="4276440" y="5334120"/>
              <a:ext cx="3152880" cy="3962160"/>
            </p:xfrm>
            <a:graphic>
              <a:graphicData uri="http://schemas.openxmlformats.org/presentationml/2006/ole">
                <p:oleObj r:id="rId2" spid="">
                  <p:embed/>
                  <p:pic>
                    <p:nvPicPr>
                      <p:cNvPr id="49" name="" descr=""/>
                      <p:cNvPicPr/>
                      <p:nvPr/>
                    </p:nvPicPr>
                    <p:blipFill>
                      <a:blip r:embed="rId3"/>
                      <a:stretch/>
                    </p:blipFill>
                    <p:spPr>
                      <a:xfrm>
                        <a:off x="4276440" y="5334120"/>
                        <a:ext cx="3152880" cy="3962160"/>
                      </a:xfrm>
                      <a:prstGeom prst="rect">
                        <a:avLst/>
                      </a:prstGeom>
                      <a:ln w="0">
                        <a:noFill/>
                      </a:ln>
                    </p:spPr>
                  </p:pic>
                </p:oleObj>
              </a:graphicData>
            </a:graphic>
          </p:graphicFrame>
          <p:sp>
            <p:nvSpPr>
              <p:cNvPr id="50" name=""/>
              <p:cNvSpPr/>
              <p:nvPr/>
            </p:nvSpPr>
            <p:spPr>
              <a:xfrm>
                <a:off x="4234680" y="6293160"/>
                <a:ext cx="87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 name=""/>
              <p:cNvSpPr/>
              <p:nvPr/>
            </p:nvSpPr>
            <p:spPr>
              <a:xfrm>
                <a:off x="4191120" y="6141240"/>
                <a:ext cx="690480" cy="2084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Times New Roman"/>
                  </a:rPr>
                  <a:t>Canalisation </a:t>
                </a:r>
                <a:r>
                  <a:rPr b="0" lang="fr-FR" sz="900" spc="-1" strike="noStrike">
                    <a:solidFill>
                      <a:srgbClr val="000000"/>
                    </a:solidFill>
                    <a:latin typeface="Times New Roman"/>
                    <a:ea typeface="Times New Roman"/>
                  </a:rPr>
                  <a:t>Ø 100 mm</a:t>
                </a:r>
                <a:endParaRPr b="0" lang="en-US" sz="900" spc="-1" strike="noStrike">
                  <a:solidFill>
                    <a:srgbClr val="000000"/>
                  </a:solidFill>
                  <a:latin typeface="Times New Roman"/>
                </a:endParaRPr>
              </a:p>
            </p:txBody>
          </p:sp>
          <p:sp>
            <p:nvSpPr>
              <p:cNvPr id="52" name=""/>
              <p:cNvSpPr/>
              <p:nvPr/>
            </p:nvSpPr>
            <p:spPr>
              <a:xfrm flipH="1">
                <a:off x="5361840" y="7419240"/>
                <a:ext cx="1417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 name=""/>
              <p:cNvSpPr/>
              <p:nvPr/>
            </p:nvSpPr>
            <p:spPr>
              <a:xfrm>
                <a:off x="5471280" y="7252200"/>
                <a:ext cx="1399320" cy="2923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Times New Roman"/>
                  </a:rPr>
                  <a:t>Canalisation </a:t>
                </a:r>
                <a:r>
                  <a:rPr b="0" lang="fr-FR" sz="900" spc="-1" strike="noStrike">
                    <a:solidFill>
                      <a:srgbClr val="000000"/>
                    </a:solidFill>
                    <a:latin typeface="Times New Roman"/>
                    <a:ea typeface="Times New Roman"/>
                  </a:rPr>
                  <a:t>Ø 100 mm</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Times New Roman"/>
                    <a:ea typeface="Times New Roman"/>
                  </a:rPr>
                  <a:t>(possibilité de la placer à l’intérieur)</a:t>
                </a:r>
                <a:endParaRPr b="0" lang="en-US" sz="900" spc="-1" strike="noStrike">
                  <a:solidFill>
                    <a:srgbClr val="000000"/>
                  </a:solidFill>
                  <a:latin typeface="Times New Roman"/>
                </a:endParaRPr>
              </a:p>
            </p:txBody>
          </p:sp>
          <p:sp>
            <p:nvSpPr>
              <p:cNvPr id="54" name=""/>
              <p:cNvSpPr/>
              <p:nvPr/>
            </p:nvSpPr>
            <p:spPr>
              <a:xfrm flipV="1">
                <a:off x="5508000" y="8878320"/>
                <a:ext cx="0" cy="250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flipH="1">
                <a:off x="5034600" y="9129600"/>
                <a:ext cx="472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4595040" y="9003600"/>
                <a:ext cx="620280" cy="208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Times New Roman"/>
                  </a:rPr>
                  <a:t>Bac à graisse</a:t>
                </a:r>
                <a:endParaRPr b="0" lang="en-US" sz="900" spc="-1" strike="noStrike">
                  <a:solidFill>
                    <a:srgbClr val="000000"/>
                  </a:solidFill>
                  <a:latin typeface="Times New Roman"/>
                </a:endParaRPr>
              </a:p>
            </p:txBody>
          </p:sp>
          <p:sp>
            <p:nvSpPr>
              <p:cNvPr id="57" name=""/>
              <p:cNvSpPr/>
              <p:nvPr/>
            </p:nvSpPr>
            <p:spPr>
              <a:xfrm>
                <a:off x="5981040" y="8378280"/>
                <a:ext cx="0" cy="542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5689080" y="8212320"/>
                <a:ext cx="582480" cy="1659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Times New Roman"/>
                  </a:rPr>
                  <a:t>Fosse Septique</a:t>
                </a:r>
                <a:endParaRPr b="0" lang="en-US" sz="900" spc="-1" strike="noStrike">
                  <a:solidFill>
                    <a:srgbClr val="000000"/>
                  </a:solidFill>
                  <a:latin typeface="Times New Roman"/>
                </a:endParaRPr>
              </a:p>
            </p:txBody>
          </p:sp>
          <p:sp>
            <p:nvSpPr>
              <p:cNvPr id="59" name=""/>
              <p:cNvSpPr/>
              <p:nvPr/>
            </p:nvSpPr>
            <p:spPr>
              <a:xfrm>
                <a:off x="6525360" y="8128080"/>
                <a:ext cx="0" cy="75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6234840" y="7919640"/>
                <a:ext cx="581040" cy="2498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Times New Roman"/>
                  </a:rPr>
                  <a:t>Préfiltre</a:t>
                </a:r>
                <a:endParaRPr b="0" lang="en-US" sz="900" spc="-1" strike="noStrike">
                  <a:solidFill>
                    <a:srgbClr val="000000"/>
                  </a:solidFill>
                  <a:latin typeface="Times New Roman"/>
                </a:endParaRPr>
              </a:p>
            </p:txBody>
          </p:sp>
          <p:sp>
            <p:nvSpPr>
              <p:cNvPr id="61" name=""/>
              <p:cNvSpPr/>
              <p:nvPr/>
            </p:nvSpPr>
            <p:spPr>
              <a:xfrm>
                <a:off x="6744600" y="8212320"/>
                <a:ext cx="580680" cy="207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Times New Roman"/>
                  </a:rPr>
                  <a:t>Regard de répartition</a:t>
                </a:r>
                <a:endParaRPr b="0" lang="en-US" sz="900" spc="-1" strike="noStrike">
                  <a:solidFill>
                    <a:srgbClr val="000000"/>
                  </a:solidFill>
                  <a:latin typeface="Times New Roman"/>
                </a:endParaRPr>
              </a:p>
            </p:txBody>
          </p:sp>
        </p:grpSp>
        <p:sp>
          <p:nvSpPr>
            <p:cNvPr id="62" name=""/>
            <p:cNvSpPr/>
            <p:nvPr/>
          </p:nvSpPr>
          <p:spPr>
            <a:xfrm>
              <a:off x="4395960" y="5334120"/>
              <a:ext cx="873000" cy="3337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rPr>
                <a:t>Ventilation primaire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rPr>
                <a:t>(Évent)</a:t>
              </a:r>
              <a:endParaRPr b="0" lang="en-US" sz="1000" spc="-1" strike="noStrike">
                <a:solidFill>
                  <a:srgbClr val="000000"/>
                </a:solidFill>
                <a:latin typeface="Times New Roman"/>
              </a:endParaRPr>
            </a:p>
          </p:txBody>
        </p:sp>
        <p:sp>
          <p:nvSpPr>
            <p:cNvPr id="63" name=""/>
            <p:cNvSpPr/>
            <p:nvPr/>
          </p:nvSpPr>
          <p:spPr>
            <a:xfrm>
              <a:off x="5392440" y="5558400"/>
              <a:ext cx="763560" cy="2084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rPr>
                <a:t>Ventilation secondaire</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rPr>
                <a:t>(extracteur)</a:t>
              </a:r>
              <a:endParaRPr b="0" lang="en-US" sz="1000" spc="-1" strike="noStrike">
                <a:solidFill>
                  <a:srgbClr val="000000"/>
                </a:solidFill>
                <a:latin typeface="Times New Roman"/>
              </a:endParaRPr>
            </a:p>
          </p:txBody>
        </p:sp>
      </p:grpSp>
      <p:sp>
        <p:nvSpPr>
          <p:cNvPr id="64" name=""/>
          <p:cNvSpPr/>
          <p:nvPr/>
        </p:nvSpPr>
        <p:spPr>
          <a:xfrm>
            <a:off x="228600" y="2971800"/>
            <a:ext cx="1676520" cy="8380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Entrée des eaux prétraitées et vannes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ea typeface="Times New Roman"/>
              </a:rPr>
              <a:t>ø </a:t>
            </a:r>
            <a:r>
              <a:rPr b="0" lang="fr-FR" sz="1200" spc="-1" strike="noStrike">
                <a:solidFill>
                  <a:srgbClr val="000000"/>
                </a:solidFill>
                <a:latin typeface="Times New Roman"/>
                <a:ea typeface="Times New Roman"/>
              </a:rPr>
              <a:t>100 m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Achille Sailly</cp:lastModifiedBy>
  <dcterms:modified xsi:type="dcterms:W3CDTF">2013-11-18T08:56:19Z</dcterms:modified>
  <cp:revision>8</cp:revision>
  <dc:subject/>
  <dc:title>PowerPoint Presentation</dc:title>
</cp:coreProperties>
</file>