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8FE-1C41-423F-A54A-458D7D51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62A-6521-4CE2-AA67-E50098E2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2C9-5112-4438-BD76-EEC4461E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005-0893-4366-BA28-C026BD18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15B-5863-4884-9B5B-EB8E0480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2C7-41DF-41C3-9DB5-289BE2E5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9F6-9BC3-44A6-B4A7-10960F0A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212-1A12-4B53-874A-BE4FC839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F24-2D42-4C15-97B4-B22694FF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C75-609E-4257-9F22-47A85820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3D1-C600-4ECD-827C-773D784E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0EE-B091-4C4F-AEBF-1408FF73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5124-E172-4A0C-99A8-732E6672C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FILTRE A SABLE HORIZONTAL DRA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458200"/>
            <a:ext cx="3733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 filtre à sable horizontal drainé ne doit être mis en place que dans des cas exceptionnels: sols inaptes à l’épandage naturel et impossibilité d’installer un lit filtrant drainé à flux ver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filtre à sable horizontal est composé successivement, dans le sens de l ’écoulement et sur une épaisseur de 0.35 m , des couches suivant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8 m de graviers lavés roulés (10-4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1,2 m de gravillons fin (6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3 m de sable lavé (2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5 m de gravillons fins lavés roulés (6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8458200"/>
            <a:ext cx="3505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répartition des effluents s’effectue sur toute la largeur de la fouille et est assurée par une canalisation dont le fil d’eau est situé à au moins 35 cm du fond de fouil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ensemble du filtre, dont la longueur est de 5,50 m maximum, est recouvert d’un géotextile perméable à l’eau et à l’air avant son remblaiement par une couche de terre végétale de 20 c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838080"/>
            <a:ext cx="8001000" cy="7619760"/>
            <a:chOff x="0" y="838080"/>
            <a:chExt cx="8001000" cy="7619760"/>
          </a:xfrm>
        </p:grpSpPr>
        <p:grpSp>
          <p:nvGrpSpPr>
            <p:cNvPr id="46" name=""/>
            <p:cNvGrpSpPr/>
            <p:nvPr/>
          </p:nvGrpSpPr>
          <p:grpSpPr>
            <a:xfrm>
              <a:off x="0" y="838080"/>
              <a:ext cx="8001000" cy="7619760"/>
              <a:chOff x="0" y="838080"/>
              <a:chExt cx="8001000" cy="761976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0" y="838080"/>
                <a:ext cx="7772400" cy="7441920"/>
                <a:chOff x="0" y="838080"/>
                <a:chExt cx="7772400" cy="7441920"/>
              </a:xfrm>
            </p:grpSpPr>
            <p:pic>
              <p:nvPicPr>
                <p:cNvPr id="48" name="" descr=""/>
                <p:cNvPicPr/>
                <p:nvPr/>
              </p:nvPicPr>
              <p:blipFill>
                <a:blip r:embed="rId1"/>
                <a:srcRect l="0" t="0" r="7618" b="0"/>
                <a:stretch/>
              </p:blipFill>
              <p:spPr>
                <a:xfrm>
                  <a:off x="0" y="838080"/>
                  <a:ext cx="7772400" cy="744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0" y="838080"/>
                  <a:ext cx="3352680" cy="3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6781680" y="8000640"/>
                <a:ext cx="12193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457200" y="388584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(conseillé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0" y="327636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(conseillé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251424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(conseillé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172200" y="236196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(obligatoi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FILTRE A SABLE HORIZONTAL DRA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2096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770" t="3392" r="8850" b="11804"/>
          <a:stretch/>
        </p:blipFill>
        <p:spPr>
          <a:xfrm>
            <a:off x="0" y="1828800"/>
            <a:ext cx="7696080" cy="3809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3716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upe longitudinale (B-B’)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0210680"/>
            <a:ext cx="678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us les matériaux utilisés pour la mise en place d’un assainissement non collectif, doivent répondre aux normes fixées par le DTU 64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86104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La largeur du front de répartition est de 6 m jusqu’à 4 pièces principales et de 8 m pour 5 pièces principales. Au delà, il est ajouté 1 m par pièce principale supplémentair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6248520"/>
            <a:ext cx="7239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ndition de mise en oeuv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Une fouille de 55 cm de profondeur au minimum doit être réalisée avec une pente régulière de 1 %, la largeur du filtre dépend de la taille de l’habitation. Une rigole est surcreusée en extrémité aval du filtre avec une pente de 0,5 %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Si le milieu est vulnérable, un film imperméable remontent le long des parois, peut être placé en fond de fouille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Les matériaux, les regards et les canalisations sont mis en places. Un géotextile est placé sur l’ensemble des matériaux avant  remblaiement du filtre par de la terre végétal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halie Chapron</cp:lastModifiedBy>
  <dcterms:modified xsi:type="dcterms:W3CDTF">2009-09-08T06:15:08Z</dcterms:modified>
  <cp:revision>15</cp:revision>
  <dc:subject/>
  <dc:title>PowerPoint Presentation</dc:title>
</cp:coreProperties>
</file>