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500-A8F0-4BBA-9644-8C76F91A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582912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3F5-8ECA-4688-AF84-B15DDD68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C52-084E-45AA-A8AB-88576D8F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00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00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56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56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560"/>
            <a:ext cx="187668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C96-71E1-45BD-8CB1-C4225A59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000"/>
            <a:ext cx="582912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F2C-3C32-404B-9F79-B586407D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582912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BF6-73E9-46D6-A3FE-93B7ACC8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481-1175-4CF8-84E6-0FAE3190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639-1AC2-4E30-8B73-A417D120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8DC-6AE3-4541-87AA-F8DC2466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82E-A464-435E-81A3-BEC60C2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56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825-EDE4-40EA-A563-5ACDDB6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000"/>
            <a:ext cx="284436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560"/>
            <a:ext cx="5829120" cy="28339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655-9DA0-4DF5-B70E-701D3A9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000"/>
            <a:ext cx="5829120" cy="5941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0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924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596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596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596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fld id="{2F2CE92D-3B95-41A6-BDBA-0E5E84720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200160"/>
            <a:ext cx="5878440" cy="466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FILTRE A SABLE VERTICAL DRAI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421240" y="6004080"/>
            <a:ext cx="914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57200" y="6737400"/>
            <a:ext cx="280836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 filtre à sable vertical drainé est un dispositif à prévoir lorsque le sol est inapte à un épandage naturel et lorsqu’il existe un exutoire pouvant recevoir l’effluent tra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3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œuvre 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e lit filtrant vertical drainé se réalise dans une excavation avec une pente en fond identique à celle des tuyaux. La profondeur de la fouille est comprise entre 1,20 et 1,40 m maximum, au delà, il convient d’installer un poste de relevag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462480" y="6670800"/>
            <a:ext cx="32004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ns la fouille, on observe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 film imperméable si nécessa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10 cm de graviers lavés roulés (10-4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 géotex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70 cm de s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20 cm de graviers lavés roulés (10-4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 géotextile permé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une couche de 20 cm de terre végét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3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 surface minimale est de 25 m² pour 5 pièces principales, majorée de 5 m² par pièce principale supplémentaire. Pour les habitations de moins de 5 pièces principales, un minimum de 20 m² est nécess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633680" y="9672480"/>
            <a:ext cx="359064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9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6"/>
          <p:cNvGrpSpPr/>
          <p:nvPr/>
        </p:nvGrpSpPr>
        <p:grpSpPr>
          <a:xfrm>
            <a:off x="228600" y="733320"/>
            <a:ext cx="6400440" cy="6185160"/>
            <a:chOff x="228600" y="733320"/>
            <a:chExt cx="6400440" cy="6185160"/>
          </a:xfrm>
        </p:grpSpPr>
        <p:grpSp>
          <p:nvGrpSpPr>
            <p:cNvPr id="47" name="Group 24"/>
            <p:cNvGrpSpPr/>
            <p:nvPr/>
          </p:nvGrpSpPr>
          <p:grpSpPr>
            <a:xfrm>
              <a:off x="228600" y="733320"/>
              <a:ext cx="6400440" cy="6185160"/>
              <a:chOff x="228600" y="733320"/>
              <a:chExt cx="6400440" cy="6185160"/>
            </a:xfrm>
          </p:grpSpPr>
          <p:grpSp>
            <p:nvGrpSpPr>
              <p:cNvPr id="48" name="Group 18"/>
              <p:cNvGrpSpPr/>
              <p:nvPr/>
            </p:nvGrpSpPr>
            <p:grpSpPr>
              <a:xfrm>
                <a:off x="228600" y="733320"/>
                <a:ext cx="6400440" cy="6185160"/>
                <a:chOff x="228600" y="733320"/>
                <a:chExt cx="6400440" cy="6185160"/>
              </a:xfrm>
            </p:grpSpPr>
            <p:graphicFrame>
              <p:nvGraphicFramePr>
                <p:cNvPr id="49" name="Object 16"/>
                <p:cNvGraphicFramePr/>
                <p:nvPr/>
              </p:nvGraphicFramePr>
              <p:xfrm>
                <a:off x="228600" y="733320"/>
                <a:ext cx="6335280" cy="61851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0" name="Object 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8600" y="733320"/>
                          <a:ext cx="6335280" cy="618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1" name="Rectangle 17"/>
                <p:cNvSpPr/>
                <p:nvPr/>
              </p:nvSpPr>
              <p:spPr>
                <a:xfrm>
                  <a:off x="5583960" y="6070320"/>
                  <a:ext cx="1045080" cy="80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1840" rIns="51840" tIns="25920" bIns="25920" anchor="ctr">
                  <a:noAutofit/>
                </a:bodyPr>
                <a:p>
                  <a:pPr>
                    <a:tabLst>
                      <a:tab algn="l" pos="0"/>
                      <a:tab algn="l" pos="792000"/>
                      <a:tab algn="l" pos="1584360"/>
                      <a:tab algn="l" pos="2376360"/>
                      <a:tab algn="l" pos="3168720"/>
                      <a:tab algn="l" pos="3960720"/>
                      <a:tab algn="l" pos="4753080"/>
                      <a:tab algn="l" pos="5545080"/>
                      <a:tab algn="l" pos="6337440"/>
                      <a:tab algn="l" pos="7129440"/>
                      <a:tab algn="l" pos="7921800"/>
                      <a:tab algn="l" pos="8713800"/>
                      <a:tab algn="l" pos="9505800"/>
                      <a:tab algn="l" pos="1029816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Line 21"/>
              <p:cNvSpPr/>
              <p:nvPr/>
            </p:nvSpPr>
            <p:spPr>
              <a:xfrm flipV="1">
                <a:off x="3298320" y="1599840"/>
                <a:ext cx="0" cy="133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Line 22"/>
              <p:cNvSpPr/>
              <p:nvPr/>
            </p:nvSpPr>
            <p:spPr>
              <a:xfrm>
                <a:off x="3298320" y="1600200"/>
                <a:ext cx="26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1480" rIns="5148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23"/>
              <p:cNvSpPr/>
              <p:nvPr/>
            </p:nvSpPr>
            <p:spPr>
              <a:xfrm>
                <a:off x="3559680" y="1467000"/>
                <a:ext cx="195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840" rIns="51840" tIns="25920" bIns="25920" anchor="ctr">
                <a:noAutofit/>
              </a:bodyPr>
              <a:p>
                <a:pPr algn="ctr"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Group 25"/>
            <p:cNvGrpSpPr/>
            <p:nvPr/>
          </p:nvGrpSpPr>
          <p:grpSpPr>
            <a:xfrm>
              <a:off x="3592080" y="4402440"/>
              <a:ext cx="1697400" cy="2000880"/>
              <a:chOff x="3592080" y="4402440"/>
              <a:chExt cx="1697400" cy="2000880"/>
            </a:xfrm>
          </p:grpSpPr>
          <p:sp>
            <p:nvSpPr>
              <p:cNvPr id="56" name="Rectangle 19"/>
              <p:cNvSpPr/>
              <p:nvPr/>
            </p:nvSpPr>
            <p:spPr>
              <a:xfrm>
                <a:off x="5093640" y="4402440"/>
                <a:ext cx="195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840" rIns="51840" tIns="25920" bIns="25920" anchor="ctr">
                <a:noAutofit/>
              </a:bodyPr>
              <a:p>
                <a:pPr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’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20"/>
              <p:cNvSpPr/>
              <p:nvPr/>
            </p:nvSpPr>
            <p:spPr>
              <a:xfrm>
                <a:off x="3592080" y="6203520"/>
                <a:ext cx="1303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1840" rIns="51840" tIns="25920" bIns="25920" anchor="ctr">
                <a:noAutofit/>
              </a:bodyPr>
              <a:p>
                <a:pPr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’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Rectangle 27"/>
          <p:cNvSpPr/>
          <p:nvPr/>
        </p:nvSpPr>
        <p:spPr>
          <a:xfrm>
            <a:off x="262080" y="2668680"/>
            <a:ext cx="847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m d’un arbre (conseill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457200" y="1468440"/>
            <a:ext cx="7192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 m d’une habitation (conseill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5486400" y="1468440"/>
            <a:ext cx="117648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5 m d’un puit pour l’alimentation en eau potable (obligatoi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5551560" y="2468520"/>
            <a:ext cx="1111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m des limites de propriété (conseillé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1501920" y="1001880"/>
            <a:ext cx="104616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392040" y="3268800"/>
            <a:ext cx="6526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262080" y="3868560"/>
            <a:ext cx="652320" cy="4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ssif recompos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1501920" y="2268360"/>
            <a:ext cx="1110960" cy="3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3787920" y="800280"/>
            <a:ext cx="9144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4245120" y="1201680"/>
            <a:ext cx="97920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5486400" y="3135240"/>
            <a:ext cx="9795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5486400" y="3735360"/>
            <a:ext cx="11095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yaux d’épandage perfor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5551560" y="4935600"/>
            <a:ext cx="111132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yaux de collecte perfor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5486400" y="5402160"/>
            <a:ext cx="1109520" cy="2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5616720" y="5737320"/>
            <a:ext cx="9144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1959120" y="6203880"/>
            <a:ext cx="784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ers foss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200160"/>
            <a:ext cx="5878440" cy="466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FILTRE A SABLE VERTICAL DRAI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14"/>
          <p:cNvGrpSpPr/>
          <p:nvPr/>
        </p:nvGrpSpPr>
        <p:grpSpPr>
          <a:xfrm>
            <a:off x="0" y="733320"/>
            <a:ext cx="6614280" cy="3470040"/>
            <a:chOff x="0" y="733320"/>
            <a:chExt cx="6614280" cy="3470040"/>
          </a:xfrm>
        </p:grpSpPr>
        <p:sp>
          <p:nvSpPr>
            <p:cNvPr id="76" name="Rectangle 6"/>
            <p:cNvSpPr/>
            <p:nvPr/>
          </p:nvSpPr>
          <p:spPr>
            <a:xfrm>
              <a:off x="0" y="733320"/>
              <a:ext cx="2808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792000"/>
                  <a:tab algn="l" pos="1584360"/>
                  <a:tab algn="l" pos="2376360"/>
                  <a:tab algn="l" pos="3168720"/>
                  <a:tab algn="l" pos="3960720"/>
                  <a:tab algn="l" pos="4753080"/>
                  <a:tab algn="l" pos="5545080"/>
                  <a:tab algn="l" pos="6337440"/>
                  <a:tab algn="l" pos="7129440"/>
                  <a:tab algn="l" pos="7921800"/>
                  <a:tab algn="l" pos="8713800"/>
                  <a:tab algn="l" pos="9505800"/>
                  <a:tab algn="l" pos="10298160"/>
                </a:tabLst>
              </a:pPr>
              <a:r>
                <a:rPr b="1" i="1" lang="en-US" sz="13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(B-B’) 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13"/>
            <p:cNvGrpSpPr/>
            <p:nvPr/>
          </p:nvGrpSpPr>
          <p:grpSpPr>
            <a:xfrm>
              <a:off x="391680" y="1267200"/>
              <a:ext cx="6222600" cy="2936160"/>
              <a:chOff x="391680" y="1267200"/>
              <a:chExt cx="6222600" cy="2936160"/>
            </a:xfrm>
          </p:grpSpPr>
          <p:pic>
            <p:nvPicPr>
              <p:cNvPr id="78" name="Picture 11" descr=""/>
              <p:cNvPicPr/>
              <p:nvPr/>
            </p:nvPicPr>
            <p:blipFill>
              <a:blip r:embed="rId1"/>
              <a:srcRect l="3140" t="13679" r="1286" b="2616"/>
              <a:stretch/>
            </p:blipFill>
            <p:spPr>
              <a:xfrm>
                <a:off x="652680" y="1267200"/>
                <a:ext cx="5961600" cy="29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Rectangle 12"/>
              <p:cNvSpPr/>
              <p:nvPr/>
            </p:nvSpPr>
            <p:spPr>
              <a:xfrm>
                <a:off x="391680" y="2468160"/>
                <a:ext cx="522360" cy="60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560" bIns="34560" anchor="ctr">
                <a:noAutofit/>
              </a:bodyPr>
              <a:p>
                <a:pPr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Rectangle 15"/>
          <p:cNvSpPr/>
          <p:nvPr/>
        </p:nvSpPr>
        <p:spPr>
          <a:xfrm>
            <a:off x="1633680" y="9672480"/>
            <a:ext cx="359064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9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522360" y="8604360"/>
            <a:ext cx="5813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ous les matériaux utilisés pour la mise en place d’un assainissement non collectif, doivent répondre aux normes fixées par le DTU 64-1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6270480" y="55371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6335640" y="5737320"/>
            <a:ext cx="1303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 anchorCtr="1" vert="eaVert">
            <a:noAutofit/>
          </a:bodyPr>
          <a:p>
            <a:pPr algn="ct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,10 à 1,40 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21"/>
          <p:cNvGrpSpPr/>
          <p:nvPr/>
        </p:nvGrpSpPr>
        <p:grpSpPr>
          <a:xfrm>
            <a:off x="522360" y="4668840"/>
            <a:ext cx="5683320" cy="3468240"/>
            <a:chOff x="522360" y="4668840"/>
            <a:chExt cx="5683320" cy="3468240"/>
          </a:xfrm>
        </p:grpSpPr>
        <p:pic>
          <p:nvPicPr>
            <p:cNvPr id="85" name="Picture 3" descr=""/>
            <p:cNvPicPr/>
            <p:nvPr/>
          </p:nvPicPr>
          <p:blipFill>
            <a:blip r:embed="rId2"/>
            <a:srcRect l="0" t="0" r="19605" b="0"/>
            <a:stretch/>
          </p:blipFill>
          <p:spPr>
            <a:xfrm>
              <a:off x="522360" y="4922640"/>
              <a:ext cx="5683320" cy="30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5"/>
            <p:cNvSpPr/>
            <p:nvPr/>
          </p:nvSpPr>
          <p:spPr>
            <a:xfrm>
              <a:off x="522360" y="4668840"/>
              <a:ext cx="25725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792000"/>
                  <a:tab algn="l" pos="1584360"/>
                  <a:tab algn="l" pos="2376360"/>
                  <a:tab algn="l" pos="3168720"/>
                  <a:tab algn="l" pos="3960720"/>
                  <a:tab algn="l" pos="4753080"/>
                  <a:tab algn="l" pos="5545080"/>
                  <a:tab algn="l" pos="6337440"/>
                  <a:tab algn="l" pos="7129440"/>
                  <a:tab algn="l" pos="7921800"/>
                  <a:tab algn="l" pos="8713800"/>
                  <a:tab algn="l" pos="9505800"/>
                  <a:tab algn="l" pos="10298160"/>
                </a:tabLst>
              </a:pPr>
              <a:r>
                <a:rPr b="1" i="1" lang="en-US" sz="13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transversale (A-A’) 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0"/>
            <p:cNvSpPr/>
            <p:nvPr/>
          </p:nvSpPr>
          <p:spPr>
            <a:xfrm>
              <a:off x="522360" y="7838280"/>
              <a:ext cx="1974240" cy="29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>
                <a:tabLst>
                  <a:tab algn="l" pos="0"/>
                  <a:tab algn="l" pos="792000"/>
                  <a:tab algn="l" pos="1584360"/>
                  <a:tab algn="l" pos="2376360"/>
                  <a:tab algn="l" pos="3168720"/>
                  <a:tab algn="l" pos="3960720"/>
                  <a:tab algn="l" pos="4753080"/>
                  <a:tab algn="l" pos="5545080"/>
                  <a:tab algn="l" pos="6337440"/>
                  <a:tab algn="l" pos="7129440"/>
                  <a:tab algn="l" pos="7921800"/>
                  <a:tab algn="l" pos="8713800"/>
                  <a:tab algn="l" pos="9505800"/>
                  <a:tab algn="l" pos="10298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22"/>
          <p:cNvSpPr/>
          <p:nvPr/>
        </p:nvSpPr>
        <p:spPr>
          <a:xfrm>
            <a:off x="3787920" y="1898640"/>
            <a:ext cx="718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8:16:20Z</dcterms:created>
  <dc:creator>Nathalie Chapron</dc:creator>
  <dc:description/>
  <dc:language>en-US</dc:language>
  <cp:lastModifiedBy>Stéphane KACZMAREK</cp:lastModifiedBy>
  <dcterms:modified xsi:type="dcterms:W3CDTF">2014-03-25T12:49:38Z</dcterms:modified>
  <cp:revision>15</cp:revision>
  <dc:subject/>
  <dc:title>Présentation PowerPoint</dc:title>
</cp:coreProperties>
</file>