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639-9529-4599-8053-38954299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983-F1E4-44EC-8010-0DEF3E01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26D-9BB3-415B-8412-5F10A63C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F00-8C33-40A0-B058-F021A66A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450-22BF-4220-B115-8ABD792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1CC-BB69-4F99-BA30-C57C9D5A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531-5832-42D4-AAF6-D72969A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A15-51E6-4982-BD39-6424AEB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968-7D19-4853-A86C-FCDD5406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3E5-AE8F-4EE3-9DEF-3950AA6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83B-0BFC-4233-8ACD-F22E3B12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ADF-19F2-4BC4-BEA2-201CB89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A54F-D133-4309-A557-2C67F7CC2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BAC DEGRAISS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0880" y="5562720"/>
            <a:ext cx="3505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bac dégraisseur est un dispositif qui permet la rétention des matières solides, des graisses et des huiles contenues dans les eaux ménagères. Il est préférentiellement utilisé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e cadre d’une réhabilitation du dispositif d’assainissement non collectif, pour le pré traitement des eaux ménagères uniqu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le cadre d’une nouvelle installation, lorsque les longueurs de canalisations sont importantes entre la sortie des eaux ménagères et la fosse toutes eaux, ou lorsque l’on a des quantités importantes de grai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bac à graisse est alors intercalé entre la sortie des eaux ménagères (ou eaux de cuisine seulement) et la fosse toutes eaux pour retenir les graisses (afin d’éviter le colmatage des canalisa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volume minimal du bac dégraisseur est de 200 litres s’il collecte les eaux de cuisines seules et de 500 litres lorsqu’il collecte toutes les eaux ménagères de l’hab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que les effluents renferment des huiles et des graisses en quantité importante (restaurants par exemple), le bac à graisse est nécessaire et ses caractéristiques doivent faire l’objet d’un calcul spécifique adapté au cas particul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91120" y="5486400"/>
            <a:ext cx="327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bac dégraisseur doit  être  installé  à  moins 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 m de l’habitation et est placé avant la fosse en dehors de toutes aires de cir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précautions d’installation sont du même ordre que celles prises pour la F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ond de fouille doit être parfaitement plat et horizontal, et recouvert d’une couche de sable tassé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remplissage en eau du bac à graisse doit s’effectuer en même temps que le remblaiement manue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couvercle arrivera au niveau du sol et restera facilement accessible pour permettre un bon entreti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ventilation doit déboucher hors toiture pour évacuer les gaz malodorants produits dans le bac à grai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l est recommandé d’extraire les graisses tous les 6 mois. Pour des usages particuliers (restaurant, hôtellerie…), la fréquence d’entretien de vidange des bacs à graisse devra être augment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30"/>
          <p:cNvGrpSpPr/>
          <p:nvPr/>
        </p:nvGrpSpPr>
        <p:grpSpPr>
          <a:xfrm>
            <a:off x="914400" y="1447920"/>
            <a:ext cx="6095880" cy="3043080"/>
            <a:chOff x="914400" y="1447920"/>
            <a:chExt cx="6095880" cy="3043080"/>
          </a:xfrm>
        </p:grpSpPr>
        <p:grpSp>
          <p:nvGrpSpPr>
            <p:cNvPr id="45" name="Group 29"/>
            <p:cNvGrpSpPr/>
            <p:nvPr/>
          </p:nvGrpSpPr>
          <p:grpSpPr>
            <a:xfrm>
              <a:off x="914400" y="1447920"/>
              <a:ext cx="6095880" cy="3043080"/>
              <a:chOff x="914400" y="1447920"/>
              <a:chExt cx="6095880" cy="3043080"/>
            </a:xfrm>
          </p:grpSpPr>
          <p:pic>
            <p:nvPicPr>
              <p:cNvPr id="46" name="Picture 20" descr=""/>
              <p:cNvPicPr/>
              <p:nvPr/>
            </p:nvPicPr>
            <p:blipFill>
              <a:blip r:embed="rId1"/>
              <a:srcRect l="6142" t="1938" r="14577" b="8441"/>
              <a:stretch/>
            </p:blipFill>
            <p:spPr>
              <a:xfrm>
                <a:off x="1066680" y="1676520"/>
                <a:ext cx="5943600" cy="28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Rectangle 22"/>
              <p:cNvSpPr/>
              <p:nvPr/>
            </p:nvSpPr>
            <p:spPr>
              <a:xfrm>
                <a:off x="1447920" y="1905120"/>
                <a:ext cx="1066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Niveau du s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Rectangle 23"/>
              <p:cNvSpPr/>
              <p:nvPr/>
            </p:nvSpPr>
            <p:spPr>
              <a:xfrm>
                <a:off x="5334120" y="1447920"/>
                <a:ext cx="12189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Ventila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Ø 100 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Rectangle 25"/>
              <p:cNvSpPr/>
              <p:nvPr/>
            </p:nvSpPr>
            <p:spPr>
              <a:xfrm>
                <a:off x="6095880" y="3353040"/>
                <a:ext cx="8384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lois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27"/>
              <p:cNvSpPr/>
              <p:nvPr/>
            </p:nvSpPr>
            <p:spPr>
              <a:xfrm>
                <a:off x="914400" y="2895840"/>
                <a:ext cx="137160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6"/>
              <p:cNvSpPr/>
              <p:nvPr/>
            </p:nvSpPr>
            <p:spPr>
              <a:xfrm>
                <a:off x="1066680" y="3200400"/>
                <a:ext cx="12193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loison brise-j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28"/>
              <p:cNvSpPr/>
              <p:nvPr/>
            </p:nvSpPr>
            <p:spPr>
              <a:xfrm>
                <a:off x="1295280" y="2895840"/>
                <a:ext cx="9907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Grais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Line 24"/>
            <p:cNvSpPr/>
            <p:nvPr/>
          </p:nvSpPr>
          <p:spPr>
            <a:xfrm flipH="1">
              <a:off x="4191120" y="175284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34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hille Sailly</cp:lastModifiedBy>
  <dcterms:modified xsi:type="dcterms:W3CDTF">2013-12-05T14:39:57Z</dcterms:modified>
  <cp:revision>7</cp:revision>
  <dc:subject/>
  <dc:title>PowerPoint Presentation</dc:title>
</cp:coreProperties>
</file>