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002588" cy="113141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2208-2EE7-4250-865B-594889D4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A7CF-02CF-4A1A-892F-BF4C58FB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994A-EAD8-4D37-9E19-5EF6A552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A01D-D8C4-4050-BFA9-E95263CB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48B-5863-4150-82C2-9D321468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4A5C-D397-44CA-8C2C-202E51EA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7BAD-49A5-4D35-944B-D7EEDF59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93D8-CCDF-4E48-ABF2-9B1B4C09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9C11-1A97-4914-B078-C962C391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2EF-53A7-4FD3-BDBB-19287AD9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625-853B-435A-9A90-9E7DC1E5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6B5-B3EB-497F-81A5-F041787A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8960"/>
            <a:ext cx="2533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633A-DCD7-44A0-BF60-AEB91802E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533520" y="228600"/>
            <a:ext cx="6858000" cy="68580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TRANCHEES D’ÉPANDAGE A FAIBLE PROFOND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80880" y="7086600"/>
            <a:ext cx="3505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s tranchées d’épandage à faible profondeur reçoivent les eaux usées domestiques prétraitées. Le sol en place est utilisé comme système épurateur et comme moyen dispersant (système d’infiltration), à la fois en fond de tranchée d’épandage et latéra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épandage est réalisé par l’intermédiaire de tuyaux placés horizontalement, dans un ensemble de tranchées parallèles les unes aux autr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ndition de mis en œuv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e dispositif doit être placé prés de la surface du sol, tout en étant protégé. De plus, un aménagement par terrasse doit être réalisé, lorsque la pente du terrain est supérieur à 10 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tuyaux d’épandage sont posés avec une pente régulière pouvant atteindre 1%, dans le sens de l’écou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114800" y="7162920"/>
            <a:ext cx="3352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écartement d’axe en axe des tranchées doit être égale ou supérieur à 1,5 m. La largeur de chaque tranchée est comprise entre 0,5 et 0,7 m. Le fond du fouille doit présenter une pente identique à celle des d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épandage doit être maillé chaque fois que la topographie le permet et il doit être alimenté par un dispositif assurant une égale répartition des effluents dans le réseau de distrib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mposition des tranché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0,3 à 0,4 m de graviers roulés lavés (10-4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géotextile permé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0,20 m de couche de terre végét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7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25"/>
          <p:cNvGrpSpPr/>
          <p:nvPr/>
        </p:nvGrpSpPr>
        <p:grpSpPr>
          <a:xfrm>
            <a:off x="0" y="990720"/>
            <a:ext cx="8000640" cy="6151320"/>
            <a:chOff x="0" y="990720"/>
            <a:chExt cx="8000640" cy="6151320"/>
          </a:xfrm>
        </p:grpSpPr>
        <p:grpSp>
          <p:nvGrpSpPr>
            <p:cNvPr id="46" name="Group 21"/>
            <p:cNvGrpSpPr/>
            <p:nvPr/>
          </p:nvGrpSpPr>
          <p:grpSpPr>
            <a:xfrm>
              <a:off x="0" y="990720"/>
              <a:ext cx="8000640" cy="6151320"/>
              <a:chOff x="0" y="990720"/>
              <a:chExt cx="8000640" cy="6151320"/>
            </a:xfrm>
          </p:grpSpPr>
          <p:graphicFrame>
            <p:nvGraphicFramePr>
              <p:cNvPr id="47" name="Object 18"/>
              <p:cNvGraphicFramePr/>
              <p:nvPr/>
            </p:nvGraphicFramePr>
            <p:xfrm>
              <a:off x="0" y="990720"/>
              <a:ext cx="7756920" cy="6151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8" name="Object 1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0" y="990720"/>
                        <a:ext cx="7756920" cy="6151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9" name="Rectangle 19"/>
              <p:cNvSpPr/>
              <p:nvPr/>
            </p:nvSpPr>
            <p:spPr>
              <a:xfrm>
                <a:off x="6666120" y="5790960"/>
                <a:ext cx="1334520" cy="129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Line 22"/>
            <p:cNvSpPr/>
            <p:nvPr/>
          </p:nvSpPr>
          <p:spPr>
            <a:xfrm flipV="1">
              <a:off x="3809880" y="1980720"/>
              <a:ext cx="0" cy="1676520"/>
            </a:xfrm>
            <a:prstGeom prst="line">
              <a:avLst/>
            </a:prstGeom>
            <a:ln w="648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23"/>
            <p:cNvSpPr/>
            <p:nvPr/>
          </p:nvSpPr>
          <p:spPr>
            <a:xfrm>
              <a:off x="3828960" y="198108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24"/>
            <p:cNvSpPr/>
            <p:nvPr/>
          </p:nvSpPr>
          <p:spPr>
            <a:xfrm flipH="1">
              <a:off x="4114800" y="17524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26"/>
          <p:cNvSpPr/>
          <p:nvPr/>
        </p:nvSpPr>
        <p:spPr>
          <a:xfrm>
            <a:off x="4191120" y="685800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7"/>
          <p:cNvSpPr/>
          <p:nvPr/>
        </p:nvSpPr>
        <p:spPr>
          <a:xfrm>
            <a:off x="6248520" y="533412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762120" y="2057400"/>
            <a:ext cx="838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5 m d’une habitation (conseillé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457200" y="3276720"/>
            <a:ext cx="9907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3 m d’un arbre (conseillé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4876920" y="1981080"/>
            <a:ext cx="11430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Ventilation secondaire avec extracteur statique ou éol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1"/>
          <p:cNvSpPr/>
          <p:nvPr/>
        </p:nvSpPr>
        <p:spPr>
          <a:xfrm>
            <a:off x="6324480" y="2057400"/>
            <a:ext cx="1371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35 m d’un puit pour l’alimentation en eau potable (obligatoi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2"/>
          <p:cNvSpPr/>
          <p:nvPr/>
        </p:nvSpPr>
        <p:spPr>
          <a:xfrm>
            <a:off x="6400800" y="3124080"/>
            <a:ext cx="1143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3 m des limites de propriété (conseillé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3"/>
          <p:cNvSpPr/>
          <p:nvPr/>
        </p:nvSpPr>
        <p:spPr>
          <a:xfrm>
            <a:off x="0" y="3809880"/>
            <a:ext cx="1143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2 coudes à 45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304920" y="4419720"/>
            <a:ext cx="7617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assif dispers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1752480" y="2971800"/>
            <a:ext cx="12956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répart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1905120" y="1143000"/>
            <a:ext cx="12189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Fosse toutes eaux avec préfiltre incorpor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4572000" y="1143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collec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6705720" y="38862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uyaux ple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6705720" y="434340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uyaux perfo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0" y="6705720"/>
            <a:ext cx="1295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boucl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533520" y="228600"/>
            <a:ext cx="6858000" cy="68580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TRANCHEES D’ÉPANDAGE A FAIBLE PROFOND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rcRect l="0" t="9794" r="0" b="26328"/>
          <a:stretch/>
        </p:blipFill>
        <p:spPr>
          <a:xfrm>
            <a:off x="343080" y="4343400"/>
            <a:ext cx="7315200" cy="1676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762120" y="4114800"/>
            <a:ext cx="422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upe transversale (A-A’): types de tranchées possib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Object 11"/>
          <p:cNvGraphicFramePr/>
          <p:nvPr/>
        </p:nvGraphicFramePr>
        <p:xfrm>
          <a:off x="343080" y="9601200"/>
          <a:ext cx="7315200" cy="1173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080" y="9601200"/>
                    <a:ext cx="73152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12"/>
          <p:cNvSpPr/>
          <p:nvPr/>
        </p:nvSpPr>
        <p:spPr>
          <a:xfrm>
            <a:off x="380880" y="92203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Dimensionnement des tranché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24"/>
          <p:cNvGrpSpPr/>
          <p:nvPr/>
        </p:nvGrpSpPr>
        <p:grpSpPr>
          <a:xfrm>
            <a:off x="0" y="1219320"/>
            <a:ext cx="7772400" cy="2865240"/>
            <a:chOff x="0" y="1219320"/>
            <a:chExt cx="7772400" cy="2865240"/>
          </a:xfrm>
        </p:grpSpPr>
        <p:sp>
          <p:nvSpPr>
            <p:cNvPr id="75" name="Rectangle 4"/>
            <p:cNvSpPr/>
            <p:nvPr/>
          </p:nvSpPr>
          <p:spPr>
            <a:xfrm>
              <a:off x="609480" y="1219320"/>
              <a:ext cx="3581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oupe longitudinale (B-B’) en terrain plat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Picture 14" descr=""/>
            <p:cNvPicPr/>
            <p:nvPr/>
          </p:nvPicPr>
          <p:blipFill>
            <a:blip r:embed="rId4"/>
            <a:srcRect l="3336" t="16634" r="4166" b="0"/>
            <a:stretch/>
          </p:blipFill>
          <p:spPr>
            <a:xfrm>
              <a:off x="152280" y="1676520"/>
              <a:ext cx="7620120" cy="24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15"/>
            <p:cNvSpPr/>
            <p:nvPr/>
          </p:nvSpPr>
          <p:spPr>
            <a:xfrm>
              <a:off x="0" y="2895480"/>
              <a:ext cx="38088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6"/>
            <p:cNvSpPr/>
            <p:nvPr/>
          </p:nvSpPr>
          <p:spPr>
            <a:xfrm>
              <a:off x="0" y="2286000"/>
              <a:ext cx="3049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18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6"/>
          <p:cNvSpPr/>
          <p:nvPr/>
        </p:nvSpPr>
        <p:spPr>
          <a:xfrm>
            <a:off x="609480" y="4572000"/>
            <a:ext cx="17528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Écartement 1,5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5334120" y="4343400"/>
            <a:ext cx="1752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Écartement 1,5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8"/>
          <p:cNvSpPr/>
          <p:nvPr/>
        </p:nvSpPr>
        <p:spPr>
          <a:xfrm>
            <a:off x="533520" y="6248520"/>
            <a:ext cx="19047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 u="sng">
                <a:solidFill>
                  <a:srgbClr val="9966ff"/>
                </a:solidFill>
                <a:uFillTx/>
                <a:latin typeface="Times New Roman"/>
              </a:rPr>
              <a:t>Tranchée d’épandage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9"/>
          <p:cNvSpPr/>
          <p:nvPr/>
        </p:nvSpPr>
        <p:spPr>
          <a:xfrm>
            <a:off x="2514600" y="6553080"/>
            <a:ext cx="2133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53"/>
          <p:cNvGrpSpPr/>
          <p:nvPr/>
        </p:nvGrpSpPr>
        <p:grpSpPr>
          <a:xfrm>
            <a:off x="2514240" y="6248520"/>
            <a:ext cx="3054240" cy="2361960"/>
            <a:chOff x="2514240" y="6248520"/>
            <a:chExt cx="3054240" cy="2361960"/>
          </a:xfrm>
        </p:grpSpPr>
        <p:grpSp>
          <p:nvGrpSpPr>
            <p:cNvPr id="85" name="Group 30"/>
            <p:cNvGrpSpPr/>
            <p:nvPr/>
          </p:nvGrpSpPr>
          <p:grpSpPr>
            <a:xfrm>
              <a:off x="2590920" y="6248520"/>
              <a:ext cx="2665080" cy="2361600"/>
              <a:chOff x="2590920" y="6248520"/>
              <a:chExt cx="2665080" cy="2361600"/>
            </a:xfrm>
          </p:grpSpPr>
          <p:pic>
            <p:nvPicPr>
              <p:cNvPr id="86" name="Picture 20" descr=""/>
              <p:cNvPicPr/>
              <p:nvPr/>
            </p:nvPicPr>
            <p:blipFill>
              <a:blip r:embed="rId5"/>
              <a:srcRect l="-4578" t="0" r="21697" b="25765"/>
              <a:stretch/>
            </p:blipFill>
            <p:spPr>
              <a:xfrm>
                <a:off x="2590920" y="6248520"/>
                <a:ext cx="1477080" cy="236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Picture 21" descr=""/>
              <p:cNvPicPr/>
              <p:nvPr/>
            </p:nvPicPr>
            <p:blipFill>
              <a:blip r:embed="rId6"/>
              <a:srcRect l="16121" t="0" r="5576" b="25765"/>
              <a:stretch/>
            </p:blipFill>
            <p:spPr>
              <a:xfrm>
                <a:off x="3903840" y="6248520"/>
                <a:ext cx="1352160" cy="2361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" name="Group 37"/>
            <p:cNvGrpSpPr/>
            <p:nvPr/>
          </p:nvGrpSpPr>
          <p:grpSpPr>
            <a:xfrm>
              <a:off x="2590920" y="6629400"/>
              <a:ext cx="2977560" cy="1981080"/>
              <a:chOff x="2590920" y="6629400"/>
              <a:chExt cx="2977560" cy="1981080"/>
            </a:xfrm>
          </p:grpSpPr>
          <p:sp>
            <p:nvSpPr>
              <p:cNvPr id="89" name="Rectangle 31"/>
              <p:cNvSpPr/>
              <p:nvPr/>
            </p:nvSpPr>
            <p:spPr>
              <a:xfrm>
                <a:off x="5020200" y="6781680"/>
                <a:ext cx="5482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0,2 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Rectangle 32"/>
              <p:cNvSpPr/>
              <p:nvPr/>
            </p:nvSpPr>
            <p:spPr>
              <a:xfrm>
                <a:off x="5020200" y="7315200"/>
                <a:ext cx="3916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0,4 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33"/>
              <p:cNvSpPr/>
              <p:nvPr/>
            </p:nvSpPr>
            <p:spPr>
              <a:xfrm>
                <a:off x="5020200" y="7848360"/>
                <a:ext cx="4701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0,1 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34"/>
              <p:cNvSpPr/>
              <p:nvPr/>
            </p:nvSpPr>
            <p:spPr>
              <a:xfrm>
                <a:off x="5020200" y="8229600"/>
                <a:ext cx="3916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0,3 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36"/>
              <p:cNvSpPr/>
              <p:nvPr/>
            </p:nvSpPr>
            <p:spPr>
              <a:xfrm>
                <a:off x="2590920" y="6629400"/>
                <a:ext cx="313560" cy="198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Line 38"/>
            <p:cNvSpPr/>
            <p:nvPr/>
          </p:nvSpPr>
          <p:spPr>
            <a:xfrm>
              <a:off x="2819520" y="6629400"/>
              <a:ext cx="144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5"/>
            <p:cNvSpPr/>
            <p:nvPr/>
          </p:nvSpPr>
          <p:spPr>
            <a:xfrm rot="10800000">
              <a:off x="2514240" y="6781680"/>
              <a:ext cx="23508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1 m maxim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41"/>
            <p:cNvSpPr/>
            <p:nvPr/>
          </p:nvSpPr>
          <p:spPr>
            <a:xfrm>
              <a:off x="2819520" y="6248520"/>
              <a:ext cx="21333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1,50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40"/>
            <p:cNvSpPr/>
            <p:nvPr/>
          </p:nvSpPr>
          <p:spPr>
            <a:xfrm flipH="1">
              <a:off x="3352320" y="6477120"/>
              <a:ext cx="979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Line 42"/>
          <p:cNvSpPr/>
          <p:nvPr/>
        </p:nvSpPr>
        <p:spPr>
          <a:xfrm>
            <a:off x="609480" y="6019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43"/>
          <p:cNvSpPr/>
          <p:nvPr/>
        </p:nvSpPr>
        <p:spPr>
          <a:xfrm>
            <a:off x="1523880" y="6019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6"/>
          <p:cNvSpPr/>
          <p:nvPr/>
        </p:nvSpPr>
        <p:spPr>
          <a:xfrm>
            <a:off x="685800" y="6019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0,5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7"/>
          <p:cNvSpPr/>
          <p:nvPr/>
        </p:nvSpPr>
        <p:spPr>
          <a:xfrm>
            <a:off x="1676520" y="6019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0,5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9"/>
          <p:cNvSpPr/>
          <p:nvPr/>
        </p:nvSpPr>
        <p:spPr>
          <a:xfrm>
            <a:off x="4495680" y="5791320"/>
            <a:ext cx="31244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44"/>
          <p:cNvSpPr/>
          <p:nvPr/>
        </p:nvSpPr>
        <p:spPr>
          <a:xfrm>
            <a:off x="4876920" y="5791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45"/>
          <p:cNvSpPr/>
          <p:nvPr/>
        </p:nvSpPr>
        <p:spPr>
          <a:xfrm>
            <a:off x="6324480" y="5791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8"/>
          <p:cNvSpPr/>
          <p:nvPr/>
        </p:nvSpPr>
        <p:spPr>
          <a:xfrm>
            <a:off x="4876920" y="586728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0,7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0"/>
          <p:cNvSpPr/>
          <p:nvPr/>
        </p:nvSpPr>
        <p:spPr>
          <a:xfrm>
            <a:off x="6324480" y="586728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0,7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5181480" y="6019920"/>
            <a:ext cx="2286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 u="sng">
                <a:solidFill>
                  <a:srgbClr val="9966ff"/>
                </a:solidFill>
                <a:uFillTx/>
                <a:latin typeface="Times New Roman"/>
              </a:rPr>
              <a:t>Tranchée d’épandage 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2"/>
          <p:cNvSpPr/>
          <p:nvPr/>
        </p:nvSpPr>
        <p:spPr>
          <a:xfrm>
            <a:off x="2743200" y="8686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 u="sng">
                <a:solidFill>
                  <a:srgbClr val="9966ff"/>
                </a:solidFill>
                <a:uFillTx/>
                <a:latin typeface="Times New Roman"/>
              </a:rPr>
              <a:t>Tranchée d’épandage prof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hille Sailly</cp:lastModifiedBy>
  <dcterms:modified xsi:type="dcterms:W3CDTF">2014-02-11T10:30:41Z</dcterms:modified>
  <cp:revision>15</cp:revision>
  <dc:subject/>
  <dc:title>PowerPoint Presentation</dc:title>
</cp:coreProperties>
</file>