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38D-1D7A-43B4-95E1-157EE626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DD4-9DFA-4A2C-82AA-E71D3703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52F-E084-40F7-8DDB-C9EB15EE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7EF-3E4F-4C9E-BA01-7E641A38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67A-1C66-48B7-BEEC-4F1250D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ED8-020D-4BBF-BA9B-9DF53046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7A4-11BB-461D-87E2-D0F912AC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07C-C1F5-44F1-8EF5-DB38F44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912-0412-4936-A897-5944816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B88-1D69-487A-ADC5-E714764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270-4CF8-444D-AC14-EBE9517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404-8A3D-4FB7-ACE6-15E2474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40A-8A6E-48DA-99B2-2BFB6881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80880" y="7086600"/>
            <a:ext cx="3505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s tranchées d’épandage à faible profondeur reçoivent les eaux usées domestiques prétraitées. Le sol en place est utilisé comme système épurateur et comme moyen dispersant (système d’infiltration), à la fois en fond de tranchée d’épandage e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est réalisé par l’intermédiaire de tuyaux placés horizontalement, dans un ensemble de tranchées parallèles les unes aux aut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dispositif doit être placé prés de la surface du sol, tout en étant protégé. De plus, un aménagement par terrasse doit être réalisé, lorsque la pente du terrain est supérieur à 10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uyaux d’épandage sont posés avec une pente régulière pouvant atteindre 1%, dans le sens de l’écou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14800" y="7162920"/>
            <a:ext cx="3352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cartement d’axe en axe des tranchées doit être égale ou supérieur à 1,5 m. La largeur de chaque tranchée est comprise entre 0,5 et 0,7 m. Le fond du fouille doit présenter une pente identique à celle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oit être maillé chaque fois que la topographie le permet et il doit être alimenté par un dispositif assurant une égale répartition des effluents dans le réseau de 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mposition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3 à 0,4 m de graviers roulés lav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0" y="990720"/>
            <a:ext cx="8000640" cy="6151320"/>
            <a:chOff x="0" y="990720"/>
            <a:chExt cx="8000640" cy="6151320"/>
          </a:xfrm>
        </p:grpSpPr>
        <p:grpSp>
          <p:nvGrpSpPr>
            <p:cNvPr id="46" name="Group 21"/>
            <p:cNvGrpSpPr/>
            <p:nvPr/>
          </p:nvGrpSpPr>
          <p:grpSpPr>
            <a:xfrm>
              <a:off x="0" y="990720"/>
              <a:ext cx="8000640" cy="6151320"/>
              <a:chOff x="0" y="990720"/>
              <a:chExt cx="8000640" cy="6151320"/>
            </a:xfrm>
          </p:grpSpPr>
          <p:graphicFrame>
            <p:nvGraphicFramePr>
              <p:cNvPr id="47" name="Object 18"/>
              <p:cNvGraphicFramePr/>
              <p:nvPr/>
            </p:nvGraphicFramePr>
            <p:xfrm>
              <a:off x="0" y="990720"/>
              <a:ext cx="7756920" cy="6151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" name="Object 1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990720"/>
                        <a:ext cx="7756920" cy="615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" name="Rectangle 19"/>
              <p:cNvSpPr/>
              <p:nvPr/>
            </p:nvSpPr>
            <p:spPr>
              <a:xfrm>
                <a:off x="6666120" y="5790960"/>
                <a:ext cx="1334520" cy="129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22"/>
            <p:cNvSpPr/>
            <p:nvPr/>
          </p:nvSpPr>
          <p:spPr>
            <a:xfrm flipV="1">
              <a:off x="3809880" y="1980720"/>
              <a:ext cx="0" cy="1676520"/>
            </a:xfrm>
            <a:prstGeom prst="line">
              <a:avLst/>
            </a:prstGeom>
            <a:ln w="648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3"/>
            <p:cNvSpPr/>
            <p:nvPr/>
          </p:nvSpPr>
          <p:spPr>
            <a:xfrm>
              <a:off x="3828960" y="19810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flipH="1">
              <a:off x="4114800" y="1752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26"/>
          <p:cNvSpPr/>
          <p:nvPr/>
        </p:nvSpPr>
        <p:spPr>
          <a:xfrm>
            <a:off x="4191120" y="68580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762120" y="2057400"/>
            <a:ext cx="838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457200" y="3276720"/>
            <a:ext cx="990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876920" y="1981080"/>
            <a:ext cx="1143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6324480" y="2057400"/>
            <a:ext cx="1371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6400800" y="31240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0" y="38098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304920" y="4419720"/>
            <a:ext cx="7617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dispers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1752480" y="297180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7057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70572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67057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0" t="9794" r="0" b="26328"/>
          <a:stretch/>
        </p:blipFill>
        <p:spPr>
          <a:xfrm>
            <a:off x="343080" y="4343400"/>
            <a:ext cx="731520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762120" y="4114800"/>
            <a:ext cx="422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transversale (A-A’): types de tranchées possib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343080" y="9601200"/>
          <a:ext cx="7315200" cy="117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9601200"/>
                    <a:ext cx="73152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2"/>
          <p:cNvSpPr/>
          <p:nvPr/>
        </p:nvSpPr>
        <p:spPr>
          <a:xfrm>
            <a:off x="380880" y="92203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0" y="1219320"/>
            <a:ext cx="7772400" cy="2865240"/>
            <a:chOff x="0" y="1219320"/>
            <a:chExt cx="7772400" cy="2865240"/>
          </a:xfrm>
        </p:grpSpPr>
        <p:sp>
          <p:nvSpPr>
            <p:cNvPr id="75" name="Rectangle 4"/>
            <p:cNvSpPr/>
            <p:nvPr/>
          </p:nvSpPr>
          <p:spPr>
            <a:xfrm>
              <a:off x="609480" y="1219320"/>
              <a:ext cx="358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en terrain pla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4" descr=""/>
            <p:cNvPicPr/>
            <p:nvPr/>
          </p:nvPicPr>
          <p:blipFill>
            <a:blip r:embed="rId4"/>
            <a:srcRect l="3336" t="16634" r="4166" b="0"/>
            <a:stretch/>
          </p:blipFill>
          <p:spPr>
            <a:xfrm>
              <a:off x="152280" y="1676520"/>
              <a:ext cx="762012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5"/>
            <p:cNvSpPr/>
            <p:nvPr/>
          </p:nvSpPr>
          <p:spPr>
            <a:xfrm>
              <a:off x="0" y="2895480"/>
              <a:ext cx="3808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0" y="2286000"/>
              <a:ext cx="3049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8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09480" y="4572000"/>
            <a:ext cx="1752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5334120" y="434340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533520" y="62485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2514600" y="6553080"/>
            <a:ext cx="2133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53"/>
          <p:cNvGrpSpPr/>
          <p:nvPr/>
        </p:nvGrpSpPr>
        <p:grpSpPr>
          <a:xfrm>
            <a:off x="2514240" y="6248520"/>
            <a:ext cx="3054240" cy="2361960"/>
            <a:chOff x="2514240" y="6248520"/>
            <a:chExt cx="3054240" cy="2361960"/>
          </a:xfrm>
        </p:grpSpPr>
        <p:grpSp>
          <p:nvGrpSpPr>
            <p:cNvPr id="85" name="Group 30"/>
            <p:cNvGrpSpPr/>
            <p:nvPr/>
          </p:nvGrpSpPr>
          <p:grpSpPr>
            <a:xfrm>
              <a:off x="2590920" y="6248520"/>
              <a:ext cx="2665080" cy="2361600"/>
              <a:chOff x="2590920" y="6248520"/>
              <a:chExt cx="2665080" cy="2361600"/>
            </a:xfrm>
          </p:grpSpPr>
          <p:pic>
            <p:nvPicPr>
              <p:cNvPr id="86" name="Picture 20" descr=""/>
              <p:cNvPicPr/>
              <p:nvPr/>
            </p:nvPicPr>
            <p:blipFill>
              <a:blip r:embed="rId5"/>
              <a:srcRect l="-4578" t="0" r="21697" b="25765"/>
              <a:stretch/>
            </p:blipFill>
            <p:spPr>
              <a:xfrm>
                <a:off x="2590920" y="6248520"/>
                <a:ext cx="1477080" cy="236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21" descr=""/>
              <p:cNvPicPr/>
              <p:nvPr/>
            </p:nvPicPr>
            <p:blipFill>
              <a:blip r:embed="rId6"/>
              <a:srcRect l="16121" t="0" r="5576" b="25765"/>
              <a:stretch/>
            </p:blipFill>
            <p:spPr>
              <a:xfrm>
                <a:off x="3903840" y="6248520"/>
                <a:ext cx="1352160" cy="236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37"/>
            <p:cNvGrpSpPr/>
            <p:nvPr/>
          </p:nvGrpSpPr>
          <p:grpSpPr>
            <a:xfrm>
              <a:off x="2590920" y="6629400"/>
              <a:ext cx="2977560" cy="1981080"/>
              <a:chOff x="2590920" y="6629400"/>
              <a:chExt cx="2977560" cy="1981080"/>
            </a:xfrm>
          </p:grpSpPr>
          <p:sp>
            <p:nvSpPr>
              <p:cNvPr id="89" name="Rectangle 31"/>
              <p:cNvSpPr/>
              <p:nvPr/>
            </p:nvSpPr>
            <p:spPr>
              <a:xfrm>
                <a:off x="5020200" y="6781680"/>
                <a:ext cx="548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2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5020200" y="7315200"/>
                <a:ext cx="39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4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5020200" y="7848360"/>
                <a:ext cx="4701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1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5020200" y="8229600"/>
                <a:ext cx="3916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3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6"/>
              <p:cNvSpPr/>
              <p:nvPr/>
            </p:nvSpPr>
            <p:spPr>
              <a:xfrm>
                <a:off x="2590920" y="6629400"/>
                <a:ext cx="313560" cy="19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38"/>
            <p:cNvSpPr/>
            <p:nvPr/>
          </p:nvSpPr>
          <p:spPr>
            <a:xfrm>
              <a:off x="2819520" y="6629400"/>
              <a:ext cx="14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 rot="10800000">
              <a:off x="2514240" y="6781680"/>
              <a:ext cx="2350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 m maxi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2819520" y="624852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,5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0"/>
            <p:cNvSpPr/>
            <p:nvPr/>
          </p:nvSpPr>
          <p:spPr>
            <a:xfrm flipH="1">
              <a:off x="3352320" y="6477120"/>
              <a:ext cx="9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42"/>
          <p:cNvSpPr/>
          <p:nvPr/>
        </p:nvSpPr>
        <p:spPr>
          <a:xfrm>
            <a:off x="6094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15238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6"/>
          <p:cNvSpPr/>
          <p:nvPr/>
        </p:nvSpPr>
        <p:spPr>
          <a:xfrm>
            <a:off x="685800" y="6019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7"/>
          <p:cNvSpPr/>
          <p:nvPr/>
        </p:nvSpPr>
        <p:spPr>
          <a:xfrm>
            <a:off x="1676520" y="6019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4495680" y="5791320"/>
            <a:ext cx="3124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48769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6324480" y="5791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487692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632448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181480" y="60199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743200" y="8686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prof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4-02-11T10:30:41Z</dcterms:modified>
  <cp:revision>15</cp:revision>
  <dc:subject/>
  <dc:title>PowerPoint Presentation</dc:title>
</cp:coreProperties>
</file>