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8B6-24A2-4457-B9F9-CDECA65E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D19-F2DB-4F98-B252-4798420D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F14-CEC8-465D-A3F0-7D817DAB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64C-A158-4DF8-BBE0-223B8FCE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5F6-DDA2-42A7-8F30-48BB7D4C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61B-5C9C-4C16-8B47-68B527FD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C71-978A-4398-AD2E-C0D8BDD6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FEE-BD66-42B1-97C9-6D6FE743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F73-FAEC-4675-AB47-C4A004A9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043-D30B-4E10-A524-7235579A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698-0379-45A5-AE41-B060931F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F51-AA3A-4ED5-81E0-77BA9678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4987-C1C3-44FD-9A5F-98A663FD2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BAC DEGRAISS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80880" y="5562720"/>
            <a:ext cx="3505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 bac dégraisseur est un dispositif qui permet la rétention des matières solides, des graisses et des huiles contenues dans les eaux ménagères. Il est préférentiellement utilisé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ans le cadre d’une réhabilitation du dispositif d’assainissement non collectif, pour le pré traitement des eaux ménagères unique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ans le cadre d’une nouvelle installation, lorsque les longueurs de canalisations sont importantes entre la sortie des eaux ménagères et la fosse toutes eaux, ou lorsque l’on a des quantités importantes de grai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bac à graisse est alors intercalé entre la sortie des eaux ménagères (ou eaux de cuisine seulement) et la fosse toutes eaux pour retenir les graisses (afin d’éviter le colmatage des canalisat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volume minimal du bac dégraisseur est de 200 litres s’il collecte les eaux de cuisines seules et de 500 litres lorsqu’il collecte toutes les eaux ménagères de l’habi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rsque les effluents renferment des huiles et des graisses en quantité importante (restaurants par exemple), le bac à graisse est nécessaire et ses caractéristiques doivent faire l’objet d’un calcul spécifique adapté au cas particul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191120" y="5486400"/>
            <a:ext cx="32763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nception de mise en œuv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bac dégraisseur doit  être  installé  à  moins 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 m de l’habitation et est placé avant la fosse en dehors de toutes aires de circ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précautions d’installation sont du même ordre que celles prises pour la F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fond de fouille doit être parfaitement plat et horizontal, et recouvert d’une couche de sable tassé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remplissage en eau du bac à graisse doit s’effectuer en même temps que le remblaiement manue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couvercle arrivera au niveau du sol et restera facilement accessible pour permettre un bon entreti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e ventilation doit déboucher hors toiture pour évacuer les gaz malodorants produits dans le bac à grai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l est recommandé d’extraire les graisses tous les 6 mois. Pour des usages particuliers (restaurant, hôtellerie…), la fréquence d’entretien de vidange des bacs à graisse devra être augmenté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30"/>
          <p:cNvGrpSpPr/>
          <p:nvPr/>
        </p:nvGrpSpPr>
        <p:grpSpPr>
          <a:xfrm>
            <a:off x="914400" y="1447920"/>
            <a:ext cx="6095880" cy="3043080"/>
            <a:chOff x="914400" y="1447920"/>
            <a:chExt cx="6095880" cy="3043080"/>
          </a:xfrm>
        </p:grpSpPr>
        <p:grpSp>
          <p:nvGrpSpPr>
            <p:cNvPr id="45" name="Group 29"/>
            <p:cNvGrpSpPr/>
            <p:nvPr/>
          </p:nvGrpSpPr>
          <p:grpSpPr>
            <a:xfrm>
              <a:off x="914400" y="1447920"/>
              <a:ext cx="6095880" cy="3043080"/>
              <a:chOff x="914400" y="1447920"/>
              <a:chExt cx="6095880" cy="3043080"/>
            </a:xfrm>
          </p:grpSpPr>
          <p:pic>
            <p:nvPicPr>
              <p:cNvPr id="46" name="Picture 20" descr=""/>
              <p:cNvPicPr/>
              <p:nvPr/>
            </p:nvPicPr>
            <p:blipFill>
              <a:blip r:embed="rId1"/>
              <a:srcRect l="6142" t="1938" r="14577" b="8441"/>
              <a:stretch/>
            </p:blipFill>
            <p:spPr>
              <a:xfrm>
                <a:off x="1066680" y="1676520"/>
                <a:ext cx="5943600" cy="281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Rectangle 22"/>
              <p:cNvSpPr/>
              <p:nvPr/>
            </p:nvSpPr>
            <p:spPr>
              <a:xfrm>
                <a:off x="1447920" y="1905120"/>
                <a:ext cx="10666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Niveau du so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Rectangle 23"/>
              <p:cNvSpPr/>
              <p:nvPr/>
            </p:nvSpPr>
            <p:spPr>
              <a:xfrm>
                <a:off x="5334120" y="1447920"/>
                <a:ext cx="12189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Ventilatio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Ø 100 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Rectangle 25"/>
              <p:cNvSpPr/>
              <p:nvPr/>
            </p:nvSpPr>
            <p:spPr>
              <a:xfrm>
                <a:off x="6095880" y="3353040"/>
                <a:ext cx="83844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Clois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Rectangle 27"/>
              <p:cNvSpPr/>
              <p:nvPr/>
            </p:nvSpPr>
            <p:spPr>
              <a:xfrm>
                <a:off x="914400" y="2895840"/>
                <a:ext cx="1371600" cy="76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26"/>
              <p:cNvSpPr/>
              <p:nvPr/>
            </p:nvSpPr>
            <p:spPr>
              <a:xfrm>
                <a:off x="1066680" y="3200400"/>
                <a:ext cx="121932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Cloison brise-j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Rectangle 28"/>
              <p:cNvSpPr/>
              <p:nvPr/>
            </p:nvSpPr>
            <p:spPr>
              <a:xfrm>
                <a:off x="1295280" y="2895840"/>
                <a:ext cx="99072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Grais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Line 24"/>
            <p:cNvSpPr/>
            <p:nvPr/>
          </p:nvSpPr>
          <p:spPr>
            <a:xfrm flipH="1">
              <a:off x="4191120" y="175284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34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hille Sailly</cp:lastModifiedBy>
  <dcterms:modified xsi:type="dcterms:W3CDTF">2013-12-05T14:39:57Z</dcterms:modified>
  <cp:revision>7</cp:revision>
  <dc:subject/>
  <dc:title>PowerPoint Presentation</dc:title>
</cp:coreProperties>
</file>