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9DB-1648-4588-8FE5-41C7B4E0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738-9CF6-4B47-AEFD-E2CC0003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749-22FB-4C9B-BF40-3FEC69A7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A45-C566-4E01-A571-5989871E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8CD-4B19-44AC-A0B5-51A9EB9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D80-367D-401B-9CCB-8AF4F75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4DD-EC36-40E1-A538-C500132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7A2-D1DC-455C-A5B3-0A6C7B5A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2E7-800F-4125-84C1-6D55B90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A95-1BD6-4030-8E19-3DA3903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336-B9E7-45DA-B213-E62A7AD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C7E-4756-4AFF-8C2B-84B6A17B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D8E-01E7-4D59-B32C-2288E744A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8686800"/>
            <a:ext cx="3276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lit d’épandage est utilisé dans le cas des sols à dominante sableuse où la réalisation des tranchées d’épandage est difficile. Le sol en place est utilisé comme système épurate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lit d’épandage est composé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4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67080" y="876312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ec ce dispositif, l’épandage souterrain est réalisé dans une fouille unique. Le lit d’épandage doit être le plus carré possible pour faciliter la ré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e l’eau s’effectue par infiltration dans le sous-sol, à la fois par le fond de fouille mais égalemen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7"/>
          <p:cNvGrpSpPr/>
          <p:nvPr/>
        </p:nvGrpSpPr>
        <p:grpSpPr>
          <a:xfrm>
            <a:off x="0" y="838080"/>
            <a:ext cx="8001000" cy="7218360"/>
            <a:chOff x="0" y="838080"/>
            <a:chExt cx="8001000" cy="7218360"/>
          </a:xfrm>
        </p:grpSpPr>
        <p:graphicFrame>
          <p:nvGraphicFramePr>
            <p:cNvPr id="46" name="Object 13"/>
            <p:cNvGraphicFramePr/>
            <p:nvPr/>
          </p:nvGraphicFramePr>
          <p:xfrm>
            <a:off x="0" y="838080"/>
            <a:ext cx="8001000" cy="721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38080"/>
                      <a:ext cx="8001000" cy="721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Line 14"/>
            <p:cNvSpPr/>
            <p:nvPr/>
          </p:nvSpPr>
          <p:spPr>
            <a:xfrm flipV="1">
              <a:off x="3276720" y="20570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5"/>
            <p:cNvSpPr/>
            <p:nvPr/>
          </p:nvSpPr>
          <p:spPr>
            <a:xfrm>
              <a:off x="327672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3429000" y="1905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8"/>
          <p:cNvSpPr/>
          <p:nvPr/>
        </p:nvSpPr>
        <p:spPr>
          <a:xfrm>
            <a:off x="5105520" y="56386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809880" y="7391520"/>
            <a:ext cx="19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80880" y="23623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52280" y="34290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5638680" y="1905120"/>
            <a:ext cx="1371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5943600" y="3276720"/>
            <a:ext cx="1447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371600" y="16002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3809880" y="9907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6"/>
          <p:cNvSpPr/>
          <p:nvPr/>
        </p:nvSpPr>
        <p:spPr>
          <a:xfrm>
            <a:off x="3886200" y="13716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1447920" y="33526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8"/>
          <p:cNvSpPr/>
          <p:nvPr/>
        </p:nvSpPr>
        <p:spPr>
          <a:xfrm>
            <a:off x="64771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9"/>
          <p:cNvSpPr/>
          <p:nvPr/>
        </p:nvSpPr>
        <p:spPr>
          <a:xfrm>
            <a:off x="6477120" y="42670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0"/>
          <p:cNvSpPr/>
          <p:nvPr/>
        </p:nvSpPr>
        <p:spPr>
          <a:xfrm>
            <a:off x="6477120" y="464832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1"/>
          <p:cNvSpPr/>
          <p:nvPr/>
        </p:nvSpPr>
        <p:spPr>
          <a:xfrm>
            <a:off x="6477120" y="701028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2"/>
          <p:cNvSpPr/>
          <p:nvPr/>
        </p:nvSpPr>
        <p:spPr>
          <a:xfrm>
            <a:off x="2743200" y="7924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8 m maxi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0" y="54100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0 m max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2286000" y="9982080"/>
          <a:ext cx="3809880" cy="8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82080"/>
                    <a:ext cx="3809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9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1"/>
          <p:cNvGrpSpPr/>
          <p:nvPr/>
        </p:nvGrpSpPr>
        <p:grpSpPr>
          <a:xfrm>
            <a:off x="0" y="838080"/>
            <a:ext cx="8001000" cy="3276720"/>
            <a:chOff x="0" y="838080"/>
            <a:chExt cx="8001000" cy="3276720"/>
          </a:xfrm>
        </p:grpSpPr>
        <p:sp>
          <p:nvSpPr>
            <p:cNvPr id="72" name="Rectangle 16"/>
            <p:cNvSpPr/>
            <p:nvPr/>
          </p:nvSpPr>
          <p:spPr>
            <a:xfrm>
              <a:off x="0" y="83808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Picture 26" descr=""/>
            <p:cNvPicPr/>
            <p:nvPr/>
          </p:nvPicPr>
          <p:blipFill>
            <a:blip r:embed="rId3"/>
            <a:srcRect l="3005" t="15672" r="4513" b="0"/>
            <a:stretch/>
          </p:blipFill>
          <p:spPr>
            <a:xfrm>
              <a:off x="152280" y="1295280"/>
              <a:ext cx="78487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7"/>
            <p:cNvSpPr/>
            <p:nvPr/>
          </p:nvSpPr>
          <p:spPr>
            <a:xfrm>
              <a:off x="0" y="38862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0" y="274320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8"/>
          <p:cNvGrpSpPr/>
          <p:nvPr/>
        </p:nvGrpSpPr>
        <p:grpSpPr>
          <a:xfrm>
            <a:off x="0" y="4419720"/>
            <a:ext cx="7695720" cy="3487320"/>
            <a:chOff x="0" y="4419720"/>
            <a:chExt cx="7695720" cy="3487320"/>
          </a:xfrm>
        </p:grpSpPr>
        <p:grpSp>
          <p:nvGrpSpPr>
            <p:cNvPr id="79" name="Group 17"/>
            <p:cNvGrpSpPr/>
            <p:nvPr/>
          </p:nvGrpSpPr>
          <p:grpSpPr>
            <a:xfrm>
              <a:off x="0" y="4419720"/>
              <a:ext cx="7695720" cy="3487320"/>
              <a:chOff x="0" y="4419720"/>
              <a:chExt cx="7695720" cy="3487320"/>
            </a:xfrm>
          </p:grpSpPr>
          <p:grpSp>
            <p:nvGrpSpPr>
              <p:cNvPr id="80" name="Group 12"/>
              <p:cNvGrpSpPr/>
              <p:nvPr/>
            </p:nvGrpSpPr>
            <p:grpSpPr>
              <a:xfrm>
                <a:off x="0" y="4648320"/>
                <a:ext cx="7695720" cy="3258720"/>
                <a:chOff x="0" y="4648320"/>
                <a:chExt cx="7695720" cy="3258720"/>
              </a:xfrm>
            </p:grpSpPr>
            <p:pic>
              <p:nvPicPr>
                <p:cNvPr id="81" name="Picture 9" descr=""/>
                <p:cNvPicPr/>
                <p:nvPr/>
              </p:nvPicPr>
              <p:blipFill>
                <a:blip r:embed="rId4"/>
                <a:srcRect l="14814" t="13107" r="16871" b="0"/>
                <a:stretch/>
              </p:blipFill>
              <p:spPr>
                <a:xfrm>
                  <a:off x="1110600" y="4648320"/>
                  <a:ext cx="6585120" cy="325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5795280"/>
                  <a:ext cx="1347120" cy="31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55120" y="5221440"/>
                  <a:ext cx="87912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" name="Rectangle 15"/>
              <p:cNvSpPr/>
              <p:nvPr/>
            </p:nvSpPr>
            <p:spPr>
              <a:xfrm>
                <a:off x="0" y="4419720"/>
                <a:ext cx="3276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4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Coupe transversale (A-A’)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Line 35"/>
            <p:cNvSpPr/>
            <p:nvPr/>
          </p:nvSpPr>
          <p:spPr>
            <a:xfrm>
              <a:off x="1676520" y="5492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6"/>
            <p:cNvSpPr/>
            <p:nvPr/>
          </p:nvSpPr>
          <p:spPr>
            <a:xfrm>
              <a:off x="685800" y="609624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0,6 à 0,8 m max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7"/>
          <p:cNvSpPr/>
          <p:nvPr/>
        </p:nvSpPr>
        <p:spPr>
          <a:xfrm>
            <a:off x="380880" y="8305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atteindre la profondeur maximum, il faut ajouter une couche de gravier d’une hauteur entre 0 et 0,20 m entre la terre végétale et au dessus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matériaux utilisés doivent tous suivre les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9" descr=""/>
          <p:cNvPicPr/>
          <p:nvPr/>
        </p:nvPicPr>
        <p:blipFill>
          <a:blip r:embed="rId7"/>
          <a:srcRect l="13673" t="28168" r="5858" b="33023"/>
          <a:stretch/>
        </p:blipFill>
        <p:spPr>
          <a:xfrm>
            <a:off x="1523880" y="9144000"/>
            <a:ext cx="5791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0" y="91440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cp:lastPrinted>2014-07-04T10:26:29Z</cp:lastPrinted>
  <dcterms:modified xsi:type="dcterms:W3CDTF">2014-07-04T10:26:30Z</dcterms:modified>
  <cp:revision>14</cp:revision>
  <dc:subject/>
  <dc:title>PowerPoint Presentation</dc:title>
</cp:coreProperties>
</file>