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1B1B4-5EA0-4DB1-8F77-592DA9711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F81D4-788B-40E9-B869-68C74BD25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01F54-2154-4600-8744-8B24C9951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99097-98D9-479F-B9B4-54F3ADEA7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4967C-C6F4-4D3E-81CD-A39549AA4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38CCF-CDDC-4678-8B05-FF610AEC8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31480-40F4-413F-A586-395CABE07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6D892-BECA-47B2-A771-BF99572E1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74541-580E-480F-8430-B2CAB62BB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00D4A-0517-4E6F-A2B2-F3479389F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BB95-819C-431B-99E3-C2ACD7F9A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6F355-A868-4E29-A88D-BB2D46664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D76E-C9AD-4604-A567-23F93F8A246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KIT DE DISPERSION</a:t>
            </a:r>
            <a:endParaRPr b="0" lang="en-US" sz="2200" spc="-1" strike="noStrike">
              <a:solidFill>
                <a:srgbClr val="000000"/>
              </a:solidFill>
              <a:latin typeface="Times New Roman"/>
            </a:endParaRPr>
          </a:p>
        </p:txBody>
      </p:sp>
      <p:sp>
        <p:nvSpPr>
          <p:cNvPr id="42" name="PlaceHolder 2"/>
          <p:cNvSpPr>
            <a:spLocks noGrp="1"/>
          </p:cNvSpPr>
          <p:nvPr>
            <p:ph type="subTitle"/>
          </p:nvPr>
        </p:nvSpPr>
        <p:spPr>
          <a:xfrm>
            <a:off x="380880" y="761760"/>
            <a:ext cx="7010640" cy="3276360"/>
          </a:xfrm>
          <a:prstGeom prst="rect">
            <a:avLst/>
          </a:prstGeom>
          <a:noFill/>
          <a:ln w="0">
            <a:noFill/>
          </a:ln>
        </p:spPr>
        <p:txBody>
          <a:bodyPr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	</a:t>
            </a:r>
            <a:r>
              <a:rPr b="1" i="1" lang="fr-FR" sz="1200" spc="-1" strike="noStrike">
                <a:solidFill>
                  <a:srgbClr val="3333cc"/>
                </a:solidFill>
                <a:latin typeface="Times New Roman"/>
              </a:rPr>
              <a:t>Domaine d’utilisa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n cas d’absence d’exutoire, le kit de dispersion est une solution pour l’évacuation des eaux traitées issues des dispositifs d’assainissement non collectif drainés, ou d’autre type de dispositifs agrémentés selon l’arrêté du 7 Septembre 2009. Il peut également être considéré comme étant une technique alternative utilisée pour l’évacuation des eaux pluviales. Cependant, la surface disponible sur la parcelle concernée peut être une contrainte pour la mise en place de celui-ci.</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cc"/>
                </a:solidFill>
                <a:latin typeface="Times New Roman"/>
              </a:rPr>
              <a:t>	</a:t>
            </a:r>
            <a:r>
              <a:rPr b="1" i="1" lang="fr-FR" sz="1200" spc="-1" strike="noStrike">
                <a:solidFill>
                  <a:srgbClr val="3333cc"/>
                </a:solidFill>
                <a:latin typeface="Times New Roman"/>
              </a:rPr>
              <a:t>Caractéristique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kit de dispersion est comparable à un exutoire par infiltration. Sa mise en place est par conséquent tributaire de la perméabilité du sol à infiltrer les eaux. On peut y distinguer deux catégories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Kit de dispersion à faible profondeur : A n’utiliser que dans la partie superficielle du sol, là où la perméabilité serait la plus importante. Dans certains cas, la mise en place d’un poste de relevage s’avérerait nécessaire.</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Kit de dispersion profond : Ouvrage pouvant être enterré plus ou moins profondément, permettant ainsi le passage de véhicule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ea typeface="Times New Roman"/>
              </a:rPr>
              <a:t>	</a:t>
            </a:r>
            <a:r>
              <a:rPr b="1" i="1" lang="fr-FR" sz="1200" spc="-1" strike="noStrike">
                <a:solidFill>
                  <a:srgbClr val="3333cc"/>
                </a:solidFill>
                <a:latin typeface="Times New Roman"/>
              </a:rPr>
              <a:t>Kits de dispersion existant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Times New Roman"/>
              </a:rPr>
              <a:t>Kits de dispersion à faible profondeur</a:t>
            </a:r>
            <a:endParaRPr b="0" lang="en-US" sz="1200" spc="-1" strike="noStrike">
              <a:solidFill>
                <a:srgbClr val="000000"/>
              </a:solidFill>
              <a:latin typeface="Times New Roman"/>
            </a:endParaRPr>
          </a:p>
        </p:txBody>
      </p:sp>
      <p:sp>
        <p:nvSpPr>
          <p:cNvPr id="43" name="Rectangle 9"/>
          <p:cNvSpPr/>
          <p:nvPr/>
        </p:nvSpPr>
        <p:spPr>
          <a:xfrm>
            <a:off x="4343400" y="6324480"/>
            <a:ext cx="3276720" cy="4408560"/>
          </a:xfrm>
          <a:prstGeom prst="rect">
            <a:avLst/>
          </a:prstGeom>
          <a:noFill/>
          <a:ln w="0">
            <a:noFill/>
          </a:ln>
        </p:spPr>
        <p:style>
          <a:lnRef idx="0"/>
          <a:fillRef idx="0"/>
          <a:effectRef idx="0"/>
          <a:fontRef idx="minor"/>
        </p:style>
        <p: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4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graphicFrame>
        <p:nvGraphicFramePr>
          <p:cNvPr id="45" name=""/>
          <p:cNvGraphicFramePr/>
          <p:nvPr/>
        </p:nvGraphicFramePr>
        <p:xfrm>
          <a:off x="457200" y="4038480"/>
          <a:ext cx="6858000" cy="6507360"/>
        </p:xfrm>
        <a:graphic>
          <a:graphicData uri="http://schemas.openxmlformats.org/drawingml/2006/table">
            <a:tbl>
              <a:tblPr/>
              <a:tblGrid>
                <a:gridCol w="3429000"/>
                <a:gridCol w="3429000"/>
              </a:tblGrid>
              <a:tr h="457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Tranchées ou lit  d’infiltration à faible profondeur</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Kit dispersion-irrigation EPARCO</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10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tte technique consiste à réaliser des tranchées d’infiltration larges (0,70 m) ou lit d’infiltration dans la même conception que la filière d’assainissement proprement dite, soit des tuyaux d’épandage avec orifices dirigés vers le bas sur une couche de gravier 10/40 mm. Celles-ci sont dimensionnées en fonction de la perméabilité du sol et du nombre de pièces principales sur lequel est dimensionné le système d’assainissement amont</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kit est dimensionné pour 5 pièces principales et ne peut être mis en place qu’après un filtre compact à zéolite EPARCO. Celui-ci est constitué de 50 ml (2 x 25 ml) de drains perforés, avec orifices orientés vers le haut, dans une couche de pouzzolane. Ce système fonctionne sous pression (tuyau percé toujours plein) par l’intermédiaire d’un poste de relevag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348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eu coûteux</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elon la topographie du terrain, l’alimentation du système peut être gravitair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as de végétation racinaire aux abords</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Circulation de charge lourde proscri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Le cas échéant, mise en place d’un poste de relevage en amon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urface de terrain devant être disponibl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Conçu également pour les sols argileux</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Mise en place d’une haie à 1 mètre du dispositif</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rmet au végétaux adjacent un apport en eau</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Circulation de charge lourde proscri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Mise en place d’un poste de relevage en amon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 de retour d’expérience (technologie novatric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6" name="Picture 72" descr=""/>
          <p:cNvPicPr/>
          <p:nvPr/>
        </p:nvPicPr>
        <p:blipFill>
          <a:blip r:embed="rId1"/>
          <a:stretch/>
        </p:blipFill>
        <p:spPr>
          <a:xfrm>
            <a:off x="914400" y="4572000"/>
            <a:ext cx="2705040" cy="2033640"/>
          </a:xfrm>
          <a:prstGeom prst="rect">
            <a:avLst/>
          </a:prstGeom>
          <a:ln w="0">
            <a:noFill/>
          </a:ln>
        </p:spPr>
      </p:pic>
      <p:pic>
        <p:nvPicPr>
          <p:cNvPr id="47" name="Picture 74" descr=""/>
          <p:cNvPicPr/>
          <p:nvPr/>
        </p:nvPicPr>
        <p:blipFill>
          <a:blip r:embed="rId2"/>
          <a:stretch/>
        </p:blipFill>
        <p:spPr>
          <a:xfrm>
            <a:off x="4495680" y="4572000"/>
            <a:ext cx="2295720" cy="20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324480" y="6858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3"/>
          <p:cNvSpPr/>
          <p:nvPr/>
        </p:nvSpPr>
        <p:spPr>
          <a:xfrm>
            <a:off x="533520" y="228600"/>
            <a:ext cx="6800760" cy="3808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KIT DE DISPERSION</a:t>
            </a:r>
            <a:endParaRPr b="0" lang="en-US" sz="2200" spc="-1" strike="noStrike">
              <a:solidFill>
                <a:srgbClr val="000000"/>
              </a:solidFill>
              <a:latin typeface="Times New Roman"/>
            </a:endParaRPr>
          </a:p>
        </p:txBody>
      </p:sp>
      <p:sp>
        <p:nvSpPr>
          <p:cNvPr id="50" name="Rectangle 14"/>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51" name="Text Box 31"/>
          <p:cNvSpPr/>
          <p:nvPr/>
        </p:nvSpPr>
        <p:spPr>
          <a:xfrm>
            <a:off x="442080" y="803160"/>
            <a:ext cx="193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Times New Roman"/>
                <a:ea typeface="Times New Roman"/>
              </a:rPr>
              <a:t>Kits de dispersion profonds</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2" name=""/>
          <p:cNvGraphicFramePr/>
          <p:nvPr/>
        </p:nvGraphicFramePr>
        <p:xfrm>
          <a:off x="380880" y="1371600"/>
          <a:ext cx="6934320" cy="7421400"/>
        </p:xfrm>
        <a:graphic>
          <a:graphicData uri="http://schemas.openxmlformats.org/drawingml/2006/table">
            <a:tbl>
              <a:tblPr/>
              <a:tblGrid>
                <a:gridCol w="3467160"/>
                <a:gridCol w="3467160"/>
              </a:tblGrid>
              <a:tr h="304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nnel GRAF</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nnel GRAF</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1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4304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dispositif permet l’infiltration des eaux tout en étant un lieu de stockage temporaire des eaux issues des dispositifs de traitement. Il s’agit d’un assemblage de tunnels préfabriqués (1,20 x 0,80 m), fermés par des cloisons aux extrémités et perforés sur ses côtés latéraux. Il se pose sur un lit de gravier de 10 cm et doit être recouvert d’un géotextile avant son recouvrement par de la terre végéta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Son dimensionnement est fonction de la perméabilité et est adaptable en fonction du nombre de pièces principales (PP). En moyenne, 8 à 14 tunnels seraient nécessaires pour 5 PP.</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dispositif permet l’infiltration des eaux tout en étant un lieu de stockage temporaire des eaux issues des dispositifs de traitement Il s’agit d’un ou d’une succession de dômes perforés de diamètre de 1,55 m et d’un volume de 900 litres. Les eaux à infiltrer arrivent par le haut du dôme et selon la perméabilité du sol, l’eau s’y infiltre plus ou moins rapidement. Quand le premier dôme est plein, le trop-plein s’écoule dans le dôme suivant grâce à un tuyau d’évacuation, et ainsi de sui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étude de sol reste primordiale pour le dimensionnement de ce dispositif.</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1316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ose rapide (dispositif préfabriqué à emboîter et léger : 11 kg/tunnel)</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ossibilité de circulation de véhicules (si au moins 50 cm de recouvrement)</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tockage temporaire des eaux à infiltrer</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t être intéressant en cas de contrainte de surfac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Ne peut être installé en cas de remontée de napp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Ne peut être installé s’il y a une connexion directe avec un captage en eau potab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 de retour d’expérience (technologie novatric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ose rapide (dispositif préfabriqué de 30 kg)</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tockage temporaire des eaux à infiltrer</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t être intéressant en cas de contrainte de surfac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Ne peut être installé en cas de remontée de napp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Ne peut être installé s’il y a une connexion directe avec un captage en eau potab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 de retour d’expérience (technologie novatric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3" name="Picture 50" descr=""/>
          <p:cNvPicPr/>
          <p:nvPr/>
        </p:nvPicPr>
        <p:blipFill>
          <a:blip r:embed="rId1"/>
          <a:stretch/>
        </p:blipFill>
        <p:spPr>
          <a:xfrm>
            <a:off x="685800" y="1752480"/>
            <a:ext cx="2895480" cy="1873440"/>
          </a:xfrm>
          <a:prstGeom prst="rect">
            <a:avLst/>
          </a:prstGeom>
          <a:ln w="0">
            <a:noFill/>
          </a:ln>
        </p:spPr>
      </p:pic>
      <p:pic>
        <p:nvPicPr>
          <p:cNvPr id="54" name="Picture 51" descr=""/>
          <p:cNvPicPr/>
          <p:nvPr/>
        </p:nvPicPr>
        <p:blipFill>
          <a:blip r:embed="rId2"/>
          <a:stretch/>
        </p:blipFill>
        <p:spPr>
          <a:xfrm>
            <a:off x="4267080" y="1752480"/>
            <a:ext cx="2714760" cy="186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Achille Sailly</cp:lastModifiedBy>
  <dcterms:modified xsi:type="dcterms:W3CDTF">2014-02-11T10:33:22Z</dcterms:modified>
  <cp:revision>21</cp:revision>
  <dc:subject/>
  <dc:title>FOSSE TOUTES EAUX</dc:title>
</cp:coreProperties>
</file>