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650-7DB9-4CFA-9A40-88E84C32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845-A528-45CF-A33E-14699E6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56A-5403-4978-AFE8-AD9BD7D1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E40-0F83-4559-A0CD-7600145D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D1B-C674-4F26-B58C-55782172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E3D-66C1-4AB6-B90C-09F7D24A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E9B-87B0-4F73-96B3-A99713E3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9A6-62C9-468F-B585-4DCA75A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E62-45C0-47A7-AA0D-08E5FB4C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C0F-3925-4B85-9C7D-3585671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D78-0466-46F9-909B-265BD9B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2EE-176D-434D-98A4-95EF1D6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234C-98B9-4D1A-B6F1-16D6638D7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FILTRE A SABLE HORIZONTAL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45820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filtre à sable horizontal drainé ne doit être mis en place que dans des cas exceptionnels: sols inaptes à l’épandage naturel et impossibilité d’installer un lit filtrant drainé à flux ver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iltre à sable horizontal est composé successivement, dans le sens de l ’écoulement et sur une épaisseur de 0.35 m , des couches suivant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8 m de graviers lavés roul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1,2 m de gravillons fin (6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3 m de sable lavé (2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5 m de gravillons fins lavés roulés (6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845820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répartition des effluents s’effectue sur toute la largeur de la fouille et est assurée par une canalisation dont le fil d’eau est situé à au moins 35 cm du fond de fouil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ensemble du filtre, dont la longueur est de 5,50 m maximum, est recouvert d’un géotextile perméable à l’eau et à l’air avant son remblaiement par une couche de terre végétale de 20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838080"/>
            <a:ext cx="8001000" cy="7619760"/>
            <a:chOff x="0" y="838080"/>
            <a:chExt cx="8001000" cy="7619760"/>
          </a:xfrm>
        </p:grpSpPr>
        <p:grpSp>
          <p:nvGrpSpPr>
            <p:cNvPr id="46" name=""/>
            <p:cNvGrpSpPr/>
            <p:nvPr/>
          </p:nvGrpSpPr>
          <p:grpSpPr>
            <a:xfrm>
              <a:off x="0" y="838080"/>
              <a:ext cx="8001000" cy="7619760"/>
              <a:chOff x="0" y="838080"/>
              <a:chExt cx="8001000" cy="761976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0" y="838080"/>
                <a:ext cx="7772400" cy="7441920"/>
                <a:chOff x="0" y="838080"/>
                <a:chExt cx="7772400" cy="7441920"/>
              </a:xfrm>
            </p:grpSpPr>
            <p:pic>
              <p:nvPicPr>
                <p:cNvPr id="48" name="" descr=""/>
                <p:cNvPicPr/>
                <p:nvPr/>
              </p:nvPicPr>
              <p:blipFill>
                <a:blip r:embed="rId1"/>
                <a:srcRect l="0" t="0" r="7618" b="0"/>
                <a:stretch/>
              </p:blipFill>
              <p:spPr>
                <a:xfrm>
                  <a:off x="0" y="838080"/>
                  <a:ext cx="7772400" cy="744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0" y="838080"/>
                  <a:ext cx="335268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6781680" y="800064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57200" y="388584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0" y="327636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251424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72200" y="236196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obligatoi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FILTRE A SABLE HORIZONTAL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096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770" t="3392" r="8850" b="11804"/>
          <a:stretch/>
        </p:blipFill>
        <p:spPr>
          <a:xfrm>
            <a:off x="0" y="1828800"/>
            <a:ext cx="7696080" cy="380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3716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longitudinale (B-B’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0210680"/>
            <a:ext cx="678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86104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La largeur du front de répartition est de 6 m jusqu’à 4 pièces principales et de 8 m pour 5 pièces principales. Au delà, il est ajouté 1 m par pièce principale supplémentair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6248520"/>
            <a:ext cx="7239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oe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Une fouille de 55 cm de profondeur au minimum doit être réalisée avec une pente régulière de 1 %, la largeur du filtre dépend de la taille de l’habitation. Une rigole est surcreusée en extrémité aval du filtre avec une pente de 0,5 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Si le milieu est vulnérable, un film imperméable remontent le long des parois, peut être placé en fond de fouil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Les matériaux, les regards et les canalisations sont mis en places. Un géotextile est placé sur l’ensemble des matériaux avant  remblaiement du filtre par de la terre végétal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lie Chapron</cp:lastModifiedBy>
  <dcterms:modified xsi:type="dcterms:W3CDTF">2009-09-08T06:15:08Z</dcterms:modified>
  <cp:revision>15</cp:revision>
  <dc:subject/>
  <dc:title>PowerPoint Presentation</dc:title>
</cp:coreProperties>
</file>