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907588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3D63-71A5-4E7A-B87C-A4FC1F3EC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000"/>
            <a:ext cx="5829120" cy="28339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5560"/>
            <a:ext cx="5829120" cy="28339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F15C-CCD6-4DD7-9BAE-35190DF70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000"/>
            <a:ext cx="2844360" cy="28339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000"/>
            <a:ext cx="2844360" cy="28339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5560"/>
            <a:ext cx="2844360" cy="28339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5560"/>
            <a:ext cx="2844360" cy="28339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ABAD-FDCD-4CCA-9A55-CC919E1ED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000"/>
            <a:ext cx="1876680" cy="28339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000"/>
            <a:ext cx="1876680" cy="28339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000"/>
            <a:ext cx="1876680" cy="28339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5560"/>
            <a:ext cx="1876680" cy="28339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5560"/>
            <a:ext cx="1876680" cy="28339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5560"/>
            <a:ext cx="1876680" cy="28339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F9EB-8381-4EDC-A7D3-573FA3E78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000"/>
            <a:ext cx="5829120" cy="59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A7B0-8350-41C3-AC50-99860821F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000"/>
            <a:ext cx="5829120" cy="5941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52A6-8BCB-4872-B69E-D8F9D2C01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000"/>
            <a:ext cx="2844360" cy="5941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000"/>
            <a:ext cx="2844360" cy="5941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1111-0250-4EB3-AAEC-3BE69F20B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9BF4-D6D2-4567-A040-B11017271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8257-A9C0-4D32-A90E-1D8FFBD0B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000"/>
            <a:ext cx="2844360" cy="28339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000"/>
            <a:ext cx="2844360" cy="5941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5560"/>
            <a:ext cx="2844360" cy="28339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8B5C-DC57-484C-8A1F-FA2FA1CE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000"/>
            <a:ext cx="2844360" cy="5941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000"/>
            <a:ext cx="2844360" cy="28339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5560"/>
            <a:ext cx="2844360" cy="28339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7432-03E8-4F67-AA7C-E84606CFE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000"/>
            <a:ext cx="2844360" cy="28339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000"/>
            <a:ext cx="2844360" cy="28339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5560"/>
            <a:ext cx="5829120" cy="28339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10B7-8786-4D48-86BA-1F3969A1B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000"/>
            <a:ext cx="5829120" cy="5941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7000" indent="-2970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4400" indent="-247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0720" indent="-1987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89240" indent="-200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85960" indent="-19836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85960" indent="-19836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85960" indent="-19836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lstStyle>
            <a:lvl1pPr indent="0" algn="r">
              <a:buNone/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fld id="{5276ABED-50DA-467C-BBAC-7B676B42CF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457200" y="200160"/>
            <a:ext cx="5878440" cy="46656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noAutofit/>
          </a:bodyPr>
          <a:p>
            <a:pPr algn="ctr"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FILTRE A SABLE VERTICAL DRAIN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5421240" y="6004080"/>
            <a:ext cx="9144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457200" y="6737400"/>
            <a:ext cx="2808360" cy="25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noAutofit/>
          </a:bodyPr>
          <a:p>
            <a:pPr algn="just"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e filtre à sable vertical drainé est un dispositif à prévoir lorsque le sol est inapte à un épandage naturel et lorsqu’il existe un exutoire pouvant recevoir l’effluent traité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1" i="1" lang="en-US" sz="1300" spc="-1" strike="noStrike" u="sng">
                <a:solidFill>
                  <a:srgbClr val="3333cc"/>
                </a:solidFill>
                <a:uFillTx/>
                <a:latin typeface="Times New Roman"/>
              </a:rPr>
              <a:t>Condition de mise en œuvre 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Le lit filtrant vertical drainé se réalise dans une excavation avec une pente en fond identique à celle des tuyaux. La profondeur de la fouille est comprise entre 1,20 et 1,40 m maximum, au delà, il convient d’installer un poste de relevag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3462480" y="6670800"/>
            <a:ext cx="320040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noAutofit/>
          </a:bodyPr>
          <a:p>
            <a:pPr algn="just"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Dans la fouille, on observe 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- un film imperméable si nécessai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- une couche de 10 cm de graviers lavés roulés (10-4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- un géotexti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- une couche de 70 cm de 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- une couche de 20 cm de graviers lavés roulés (10-4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- un géotextile permé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- une couche de 20 cm de terre végéta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1" i="1" lang="en-US" sz="1300" spc="-1" strike="noStrike" u="sng">
                <a:solidFill>
                  <a:srgbClr val="3333cc"/>
                </a:solidFill>
                <a:uFillTx/>
                <a:latin typeface="Times New Roman"/>
              </a:rPr>
              <a:t>Dimensionnement :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La surface minimale est de 25 m² pour 5 pièces principales, majorée de 5 m² par pièce principale supplémentaire. Pour les habitations de moins de 5 pièces principales, un minimum de 20 m² est nécessair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1633680" y="9672480"/>
            <a:ext cx="3590640" cy="23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fr-FR" sz="900" spc="-1" strike="noStrike">
                <a:solidFill>
                  <a:srgbClr val="b2b2b2"/>
                </a:solidFill>
                <a:latin typeface="Times New Roman"/>
              </a:rPr>
              <a:t>Propriété d’AMODIAG Environnement. Reproduction interdite. Créé en Mai 200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Group 26"/>
          <p:cNvGrpSpPr/>
          <p:nvPr/>
        </p:nvGrpSpPr>
        <p:grpSpPr>
          <a:xfrm>
            <a:off x="228600" y="733320"/>
            <a:ext cx="6400440" cy="6185160"/>
            <a:chOff x="228600" y="733320"/>
            <a:chExt cx="6400440" cy="6185160"/>
          </a:xfrm>
        </p:grpSpPr>
        <p:grpSp>
          <p:nvGrpSpPr>
            <p:cNvPr id="47" name="Group 24"/>
            <p:cNvGrpSpPr/>
            <p:nvPr/>
          </p:nvGrpSpPr>
          <p:grpSpPr>
            <a:xfrm>
              <a:off x="228600" y="733320"/>
              <a:ext cx="6400440" cy="6185160"/>
              <a:chOff x="228600" y="733320"/>
              <a:chExt cx="6400440" cy="6185160"/>
            </a:xfrm>
          </p:grpSpPr>
          <p:grpSp>
            <p:nvGrpSpPr>
              <p:cNvPr id="48" name="Group 18"/>
              <p:cNvGrpSpPr/>
              <p:nvPr/>
            </p:nvGrpSpPr>
            <p:grpSpPr>
              <a:xfrm>
                <a:off x="228600" y="733320"/>
                <a:ext cx="6400440" cy="6185160"/>
                <a:chOff x="228600" y="733320"/>
                <a:chExt cx="6400440" cy="6185160"/>
              </a:xfrm>
            </p:grpSpPr>
            <p:graphicFrame>
              <p:nvGraphicFramePr>
                <p:cNvPr id="49" name="Object 16"/>
                <p:cNvGraphicFramePr/>
                <p:nvPr/>
              </p:nvGraphicFramePr>
              <p:xfrm>
                <a:off x="228600" y="733320"/>
                <a:ext cx="6335280" cy="618516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50" name="Object 16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228600" y="733320"/>
                          <a:ext cx="6335280" cy="61851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51" name="Rectangle 17"/>
                <p:cNvSpPr/>
                <p:nvPr/>
              </p:nvSpPr>
              <p:spPr>
                <a:xfrm>
                  <a:off x="5583960" y="6070320"/>
                  <a:ext cx="1045080" cy="800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1840" rIns="51840" tIns="25920" bIns="25920" anchor="ctr">
                  <a:noAutofit/>
                </a:bodyPr>
                <a:p>
                  <a:pPr>
                    <a:tabLst>
                      <a:tab algn="l" pos="0"/>
                      <a:tab algn="l" pos="792000"/>
                      <a:tab algn="l" pos="1584360"/>
                      <a:tab algn="l" pos="2376360"/>
                      <a:tab algn="l" pos="3168720"/>
                      <a:tab algn="l" pos="3960720"/>
                      <a:tab algn="l" pos="4753080"/>
                      <a:tab algn="l" pos="5545080"/>
                      <a:tab algn="l" pos="6337440"/>
                      <a:tab algn="l" pos="7129440"/>
                      <a:tab algn="l" pos="7921800"/>
                      <a:tab algn="l" pos="8713800"/>
                      <a:tab algn="l" pos="9505800"/>
                      <a:tab algn="l" pos="1029816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" name="Line 21"/>
              <p:cNvSpPr/>
              <p:nvPr/>
            </p:nvSpPr>
            <p:spPr>
              <a:xfrm flipV="1">
                <a:off x="3298320" y="1599840"/>
                <a:ext cx="0" cy="13345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1480" rIns="51480" tIns="25560" bIns="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Line 22"/>
              <p:cNvSpPr/>
              <p:nvPr/>
            </p:nvSpPr>
            <p:spPr>
              <a:xfrm>
                <a:off x="3298320" y="1600200"/>
                <a:ext cx="261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1480" rIns="5148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Rectangle 23"/>
              <p:cNvSpPr/>
              <p:nvPr/>
            </p:nvSpPr>
            <p:spPr>
              <a:xfrm>
                <a:off x="3559680" y="1467000"/>
                <a:ext cx="19584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840" rIns="51840" tIns="25920" bIns="25920" anchor="ctr">
                <a:noAutofit/>
              </a:bodyPr>
              <a:p>
                <a:pPr algn="ctr">
                  <a:tabLst>
                    <a:tab algn="l" pos="0"/>
                    <a:tab algn="l" pos="792000"/>
                    <a:tab algn="l" pos="1584360"/>
                    <a:tab algn="l" pos="2376360"/>
                    <a:tab algn="l" pos="3168720"/>
                    <a:tab algn="l" pos="3960720"/>
                    <a:tab algn="l" pos="4753080"/>
                    <a:tab algn="l" pos="5545080"/>
                    <a:tab algn="l" pos="6337440"/>
                    <a:tab algn="l" pos="7129440"/>
                    <a:tab algn="l" pos="7921800"/>
                    <a:tab algn="l" pos="8713800"/>
                    <a:tab algn="l" pos="9505800"/>
                    <a:tab algn="l" pos="1029816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" name="Group 25"/>
            <p:cNvGrpSpPr/>
            <p:nvPr/>
          </p:nvGrpSpPr>
          <p:grpSpPr>
            <a:xfrm>
              <a:off x="3592080" y="4402440"/>
              <a:ext cx="1697400" cy="2000880"/>
              <a:chOff x="3592080" y="4402440"/>
              <a:chExt cx="1697400" cy="2000880"/>
            </a:xfrm>
          </p:grpSpPr>
          <p:sp>
            <p:nvSpPr>
              <p:cNvPr id="56" name="Rectangle 19"/>
              <p:cNvSpPr/>
              <p:nvPr/>
            </p:nvSpPr>
            <p:spPr>
              <a:xfrm>
                <a:off x="5093640" y="4402440"/>
                <a:ext cx="19584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840" rIns="51840" tIns="25920" bIns="25920" anchor="ctr">
                <a:noAutofit/>
              </a:bodyPr>
              <a:p>
                <a:pPr>
                  <a:tabLst>
                    <a:tab algn="l" pos="0"/>
                    <a:tab algn="l" pos="792000"/>
                    <a:tab algn="l" pos="1584360"/>
                    <a:tab algn="l" pos="2376360"/>
                    <a:tab algn="l" pos="3168720"/>
                    <a:tab algn="l" pos="3960720"/>
                    <a:tab algn="l" pos="4753080"/>
                    <a:tab algn="l" pos="5545080"/>
                    <a:tab algn="l" pos="6337440"/>
                    <a:tab algn="l" pos="7129440"/>
                    <a:tab algn="l" pos="7921800"/>
                    <a:tab algn="l" pos="8713800"/>
                    <a:tab algn="l" pos="9505800"/>
                    <a:tab algn="l" pos="1029816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A’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Rectangle 20"/>
              <p:cNvSpPr/>
              <p:nvPr/>
            </p:nvSpPr>
            <p:spPr>
              <a:xfrm>
                <a:off x="3592080" y="6203520"/>
                <a:ext cx="13032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840" rIns="51840" tIns="25920" bIns="25920" anchor="ctr">
                <a:noAutofit/>
              </a:bodyPr>
              <a:p>
                <a:pPr>
                  <a:tabLst>
                    <a:tab algn="l" pos="0"/>
                    <a:tab algn="l" pos="792000"/>
                    <a:tab algn="l" pos="1584360"/>
                    <a:tab algn="l" pos="2376360"/>
                    <a:tab algn="l" pos="3168720"/>
                    <a:tab algn="l" pos="3960720"/>
                    <a:tab algn="l" pos="4753080"/>
                    <a:tab algn="l" pos="5545080"/>
                    <a:tab algn="l" pos="6337440"/>
                    <a:tab algn="l" pos="7129440"/>
                    <a:tab algn="l" pos="7921800"/>
                    <a:tab algn="l" pos="8713800"/>
                    <a:tab algn="l" pos="9505800"/>
                    <a:tab algn="l" pos="1029816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B’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" name="Rectangle 27"/>
          <p:cNvSpPr/>
          <p:nvPr/>
        </p:nvSpPr>
        <p:spPr>
          <a:xfrm>
            <a:off x="262080" y="2668680"/>
            <a:ext cx="847440" cy="2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noAutofit/>
          </a:bodyPr>
          <a:p>
            <a:pPr algn="ctr"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 m d’un arbre (conseillé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28"/>
          <p:cNvSpPr/>
          <p:nvPr/>
        </p:nvSpPr>
        <p:spPr>
          <a:xfrm>
            <a:off x="457200" y="1468440"/>
            <a:ext cx="7192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noAutofit/>
          </a:bodyPr>
          <a:p>
            <a:pPr algn="ctr"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 m d’une habitation (conseillé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29"/>
          <p:cNvSpPr/>
          <p:nvPr/>
        </p:nvSpPr>
        <p:spPr>
          <a:xfrm>
            <a:off x="5486400" y="1468440"/>
            <a:ext cx="1176480" cy="46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noAutofit/>
          </a:bodyPr>
          <a:p>
            <a:pPr algn="ctr"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5 m d’un puit pour l’alimentation en eau potable (obligatoir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30"/>
          <p:cNvSpPr/>
          <p:nvPr/>
        </p:nvSpPr>
        <p:spPr>
          <a:xfrm>
            <a:off x="5551560" y="2468520"/>
            <a:ext cx="1111320" cy="46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noAutofit/>
          </a:bodyPr>
          <a:p>
            <a:pPr algn="ctr"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 m des limites de propriété (conseillé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31"/>
          <p:cNvSpPr/>
          <p:nvPr/>
        </p:nvSpPr>
        <p:spPr>
          <a:xfrm>
            <a:off x="1501920" y="1001880"/>
            <a:ext cx="1046160" cy="66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noAutofit/>
          </a:bodyPr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osse toutes eaux avec préfiltre incorporé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32"/>
          <p:cNvSpPr/>
          <p:nvPr/>
        </p:nvSpPr>
        <p:spPr>
          <a:xfrm>
            <a:off x="392040" y="3268800"/>
            <a:ext cx="652680" cy="26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noAutofit/>
          </a:bodyPr>
          <a:p>
            <a:pPr algn="ctr"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uyaux plei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33"/>
          <p:cNvSpPr/>
          <p:nvPr/>
        </p:nvSpPr>
        <p:spPr>
          <a:xfrm>
            <a:off x="262080" y="3868560"/>
            <a:ext cx="652320" cy="46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noAutofit/>
          </a:bodyPr>
          <a:p>
            <a:pPr algn="ctr"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assif recomposé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34"/>
          <p:cNvSpPr/>
          <p:nvPr/>
        </p:nvSpPr>
        <p:spPr>
          <a:xfrm>
            <a:off x="1501920" y="2268360"/>
            <a:ext cx="1110960" cy="3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noAutofit/>
          </a:bodyPr>
          <a:p>
            <a:pPr algn="r"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oite de réparti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35"/>
          <p:cNvSpPr/>
          <p:nvPr/>
        </p:nvSpPr>
        <p:spPr>
          <a:xfrm>
            <a:off x="3787920" y="800280"/>
            <a:ext cx="91440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noAutofit/>
          </a:bodyPr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oite de collec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36"/>
          <p:cNvSpPr/>
          <p:nvPr/>
        </p:nvSpPr>
        <p:spPr>
          <a:xfrm>
            <a:off x="4245120" y="1201680"/>
            <a:ext cx="979200" cy="93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noAutofit/>
          </a:bodyPr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Ventilation secondaire avec extracteur statique ou éoli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37"/>
          <p:cNvSpPr/>
          <p:nvPr/>
        </p:nvSpPr>
        <p:spPr>
          <a:xfrm>
            <a:off x="5486400" y="3135240"/>
            <a:ext cx="97956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noAutofit/>
          </a:bodyPr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 coudes à 45°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38"/>
          <p:cNvSpPr/>
          <p:nvPr/>
        </p:nvSpPr>
        <p:spPr>
          <a:xfrm>
            <a:off x="5486400" y="3735360"/>
            <a:ext cx="1109520" cy="2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noAutofit/>
          </a:bodyPr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uyaux d’épandage perforé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39"/>
          <p:cNvSpPr/>
          <p:nvPr/>
        </p:nvSpPr>
        <p:spPr>
          <a:xfrm>
            <a:off x="5551560" y="4935600"/>
            <a:ext cx="1111320" cy="40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noAutofit/>
          </a:bodyPr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uyaux de collecte perforé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40"/>
          <p:cNvSpPr/>
          <p:nvPr/>
        </p:nvSpPr>
        <p:spPr>
          <a:xfrm>
            <a:off x="5486400" y="5402160"/>
            <a:ext cx="1109520" cy="26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noAutofit/>
          </a:bodyPr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oite de bouclag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41"/>
          <p:cNvSpPr/>
          <p:nvPr/>
        </p:nvSpPr>
        <p:spPr>
          <a:xfrm>
            <a:off x="5616720" y="5737320"/>
            <a:ext cx="91440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noAutofit/>
          </a:bodyPr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oite de collec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42"/>
          <p:cNvSpPr/>
          <p:nvPr/>
        </p:nvSpPr>
        <p:spPr>
          <a:xfrm>
            <a:off x="1959120" y="6203880"/>
            <a:ext cx="784080" cy="20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Vers fossé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457200" y="200160"/>
            <a:ext cx="5878440" cy="46656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noAutofit/>
          </a:bodyPr>
          <a:p>
            <a:pPr algn="ctr"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FILTRE A SABLE VERTICAL DRAIN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Group 14"/>
          <p:cNvGrpSpPr/>
          <p:nvPr/>
        </p:nvGrpSpPr>
        <p:grpSpPr>
          <a:xfrm>
            <a:off x="0" y="733320"/>
            <a:ext cx="6614280" cy="3470040"/>
            <a:chOff x="0" y="733320"/>
            <a:chExt cx="6614280" cy="3470040"/>
          </a:xfrm>
        </p:grpSpPr>
        <p:sp>
          <p:nvSpPr>
            <p:cNvPr id="76" name="Rectangle 6"/>
            <p:cNvSpPr/>
            <p:nvPr/>
          </p:nvSpPr>
          <p:spPr>
            <a:xfrm>
              <a:off x="0" y="733320"/>
              <a:ext cx="280800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560" bIns="34560" anchor="ctr">
              <a:noAutofit/>
            </a:bodyPr>
            <a:p>
              <a:pPr algn="ctr">
                <a:tabLst>
                  <a:tab algn="l" pos="0"/>
                  <a:tab algn="l" pos="792000"/>
                  <a:tab algn="l" pos="1584360"/>
                  <a:tab algn="l" pos="2376360"/>
                  <a:tab algn="l" pos="3168720"/>
                  <a:tab algn="l" pos="3960720"/>
                  <a:tab algn="l" pos="4753080"/>
                  <a:tab algn="l" pos="5545080"/>
                  <a:tab algn="l" pos="6337440"/>
                  <a:tab algn="l" pos="7129440"/>
                  <a:tab algn="l" pos="7921800"/>
                  <a:tab algn="l" pos="8713800"/>
                  <a:tab algn="l" pos="9505800"/>
                  <a:tab algn="l" pos="10298160"/>
                </a:tabLst>
              </a:pPr>
              <a:r>
                <a:rPr b="1" i="1" lang="en-US" sz="13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Coupe longitudinale (B-B’) :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" name="Group 13"/>
            <p:cNvGrpSpPr/>
            <p:nvPr/>
          </p:nvGrpSpPr>
          <p:grpSpPr>
            <a:xfrm>
              <a:off x="391680" y="1267200"/>
              <a:ext cx="6222600" cy="2936160"/>
              <a:chOff x="391680" y="1267200"/>
              <a:chExt cx="6222600" cy="2936160"/>
            </a:xfrm>
          </p:grpSpPr>
          <p:pic>
            <p:nvPicPr>
              <p:cNvPr id="78" name="Picture 11" descr=""/>
              <p:cNvPicPr/>
              <p:nvPr/>
            </p:nvPicPr>
            <p:blipFill>
              <a:blip r:embed="rId1"/>
              <a:srcRect l="3140" t="13679" r="1286" b="2616"/>
              <a:stretch/>
            </p:blipFill>
            <p:spPr>
              <a:xfrm>
                <a:off x="652680" y="1267200"/>
                <a:ext cx="5961600" cy="293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Rectangle 12"/>
              <p:cNvSpPr/>
              <p:nvPr/>
            </p:nvSpPr>
            <p:spPr>
              <a:xfrm>
                <a:off x="391680" y="2468160"/>
                <a:ext cx="522360" cy="60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8760" rIns="68760" tIns="34560" bIns="34560" anchor="ctr">
                <a:noAutofit/>
              </a:bodyPr>
              <a:p>
                <a:pPr>
                  <a:tabLst>
                    <a:tab algn="l" pos="0"/>
                    <a:tab algn="l" pos="792000"/>
                    <a:tab algn="l" pos="1584360"/>
                    <a:tab algn="l" pos="2376360"/>
                    <a:tab algn="l" pos="3168720"/>
                    <a:tab algn="l" pos="3960720"/>
                    <a:tab algn="l" pos="4753080"/>
                    <a:tab algn="l" pos="5545080"/>
                    <a:tab algn="l" pos="6337440"/>
                    <a:tab algn="l" pos="7129440"/>
                    <a:tab algn="l" pos="7921800"/>
                    <a:tab algn="l" pos="8713800"/>
                    <a:tab algn="l" pos="9505800"/>
                    <a:tab algn="l" pos="102981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0" name="Rectangle 15"/>
          <p:cNvSpPr/>
          <p:nvPr/>
        </p:nvSpPr>
        <p:spPr>
          <a:xfrm>
            <a:off x="1633680" y="9672480"/>
            <a:ext cx="3590640" cy="23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fr-FR" sz="900" spc="-1" strike="noStrike">
                <a:solidFill>
                  <a:srgbClr val="b2b2b2"/>
                </a:solidFill>
                <a:latin typeface="Times New Roman"/>
              </a:rPr>
              <a:t>Propriété d’AMODIAG Environnement. Reproduction interdite. Créé en Mai 200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17"/>
          <p:cNvSpPr/>
          <p:nvPr/>
        </p:nvSpPr>
        <p:spPr>
          <a:xfrm>
            <a:off x="522360" y="8604360"/>
            <a:ext cx="581328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Tous les matériaux utilisés pour la mise en place d’un assainissement non collectif, doivent répondre aux normes fixées par le DTU 64-1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18"/>
          <p:cNvSpPr/>
          <p:nvPr/>
        </p:nvSpPr>
        <p:spPr>
          <a:xfrm>
            <a:off x="6270480" y="55371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19"/>
          <p:cNvSpPr/>
          <p:nvPr/>
        </p:nvSpPr>
        <p:spPr>
          <a:xfrm>
            <a:off x="6335640" y="5737320"/>
            <a:ext cx="130320" cy="14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 anchorCtr="1" vert="eaVert">
            <a:noAutofit/>
          </a:bodyPr>
          <a:p>
            <a:pPr algn="ctr"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,10 à 1,40 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Group 21"/>
          <p:cNvGrpSpPr/>
          <p:nvPr/>
        </p:nvGrpSpPr>
        <p:grpSpPr>
          <a:xfrm>
            <a:off x="522360" y="4668840"/>
            <a:ext cx="5683320" cy="3468240"/>
            <a:chOff x="522360" y="4668840"/>
            <a:chExt cx="5683320" cy="3468240"/>
          </a:xfrm>
        </p:grpSpPr>
        <p:pic>
          <p:nvPicPr>
            <p:cNvPr id="85" name="Picture 3" descr=""/>
            <p:cNvPicPr/>
            <p:nvPr/>
          </p:nvPicPr>
          <p:blipFill>
            <a:blip r:embed="rId2"/>
            <a:srcRect l="0" t="0" r="19605" b="0"/>
            <a:stretch/>
          </p:blipFill>
          <p:spPr>
            <a:xfrm>
              <a:off x="522360" y="4922640"/>
              <a:ext cx="5683320" cy="30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Rectangle 5"/>
            <p:cNvSpPr/>
            <p:nvPr/>
          </p:nvSpPr>
          <p:spPr>
            <a:xfrm>
              <a:off x="522360" y="4668840"/>
              <a:ext cx="257256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560" bIns="34560" anchor="ctr">
              <a:noAutofit/>
            </a:bodyPr>
            <a:p>
              <a:pPr algn="ctr">
                <a:tabLst>
                  <a:tab algn="l" pos="0"/>
                  <a:tab algn="l" pos="792000"/>
                  <a:tab algn="l" pos="1584360"/>
                  <a:tab algn="l" pos="2376360"/>
                  <a:tab algn="l" pos="3168720"/>
                  <a:tab algn="l" pos="3960720"/>
                  <a:tab algn="l" pos="4753080"/>
                  <a:tab algn="l" pos="5545080"/>
                  <a:tab algn="l" pos="6337440"/>
                  <a:tab algn="l" pos="7129440"/>
                  <a:tab algn="l" pos="7921800"/>
                  <a:tab algn="l" pos="8713800"/>
                  <a:tab algn="l" pos="9505800"/>
                  <a:tab algn="l" pos="10298160"/>
                </a:tabLst>
              </a:pPr>
              <a:r>
                <a:rPr b="1" i="1" lang="en-US" sz="13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Coupe transversale (A-A’) :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Rectangle 20"/>
            <p:cNvSpPr/>
            <p:nvPr/>
          </p:nvSpPr>
          <p:spPr>
            <a:xfrm>
              <a:off x="522360" y="7838280"/>
              <a:ext cx="1974240" cy="29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560" bIns="34560" anchor="ctr">
              <a:noAutofit/>
            </a:bodyPr>
            <a:p>
              <a:pPr>
                <a:tabLst>
                  <a:tab algn="l" pos="0"/>
                  <a:tab algn="l" pos="792000"/>
                  <a:tab algn="l" pos="1584360"/>
                  <a:tab algn="l" pos="2376360"/>
                  <a:tab algn="l" pos="3168720"/>
                  <a:tab algn="l" pos="3960720"/>
                  <a:tab algn="l" pos="4753080"/>
                  <a:tab algn="l" pos="5545080"/>
                  <a:tab algn="l" pos="6337440"/>
                  <a:tab algn="l" pos="7129440"/>
                  <a:tab algn="l" pos="7921800"/>
                  <a:tab algn="l" pos="8713800"/>
                  <a:tab algn="l" pos="9505800"/>
                  <a:tab algn="l" pos="102981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Rectangle 22"/>
          <p:cNvSpPr/>
          <p:nvPr/>
        </p:nvSpPr>
        <p:spPr>
          <a:xfrm>
            <a:off x="3787920" y="1898640"/>
            <a:ext cx="718920" cy="16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4T08:16:20Z</dcterms:created>
  <dc:creator>Nathalie Chapron</dc:creator>
  <dc:description/>
  <dc:language>en-US</dc:language>
  <cp:lastModifiedBy>Stéphane KACZMAREK</cp:lastModifiedBy>
  <dcterms:modified xsi:type="dcterms:W3CDTF">2014-03-25T12:49:38Z</dcterms:modified>
  <cp:revision>15</cp:revision>
  <dc:subject/>
  <dc:title>Présentation PowerPoint</dc:title>
</cp:coreProperties>
</file>