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BBFB8-2DE2-4CD1-8BD1-16F256AEE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E555-DD5B-471C-BD73-983FF065D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45F3B-AF98-4D8A-A1BC-DAFCE8A24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024F0-7519-483B-A27F-C32159E5D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D5B1-E53D-4D6F-8C19-39CA46848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F05D8-32ED-4733-BFB6-CAC375AC0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0838-40CC-4E46-A9FF-0E5B9C83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08C1-0F1E-4ED0-8B51-9B8667BA3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11ED-8FF9-4991-8272-2C8072DB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D1C1-F843-4857-A25A-97FAA7B7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684E-A623-4566-9DDB-3B07960C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97D4-C5F9-487E-8228-ECE153D5E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4A4C-3719-4281-80B3-D3B3E93534F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380880" y="761760"/>
            <a:ext cx="7010640" cy="327636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	</a:t>
            </a:r>
            <a:r>
              <a:rPr b="1" i="1" lang="fr-FR" sz="1200" spc="-1" strike="noStrike">
                <a:solidFill>
                  <a:srgbClr val="3333cc"/>
                </a:solidFill>
                <a:latin typeface="Times New Roman"/>
              </a:rPr>
              <a:t>Domaine d’utilis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cas d’absence d’exutoire, le kit de dispersion est une solution pour l’évacuation des eaux traitées issues des dispositifs d’assainissement non collectif drainés, ou d’autre type de dispositifs agrémentés selon l’arrêté du 7 Septembre 2009. Il peut également être considéré comme étant une technique alternative utilisée pour l’évacuation des eaux pluviales. Cependant, la surface disponible sur la parcelle concernée peut être une contrainte pour la mise en place de celui-ci.</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cc"/>
                </a:solidFill>
                <a:latin typeface="Times New Roman"/>
              </a:rPr>
              <a:t>	</a:t>
            </a:r>
            <a:r>
              <a:rPr b="1" i="1" lang="fr-FR" sz="1200" spc="-1" strike="noStrike">
                <a:solidFill>
                  <a:srgbClr val="3333cc"/>
                </a:solidFill>
                <a:latin typeface="Times New Roman"/>
              </a:rPr>
              <a:t>Caractéristiqu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kit de dispersion est comparable à un exutoire par infiltration. Sa mise en place est par conséquent tributaire de la perméabilité du sol à infiltrer les eaux. On peut y distinguer deux catégorie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à faible profondeur : A n’utiliser que dans la partie superficielle du sol, là où la perméabilité serait la plus importante. Dans certains cas, la mise en place d’un poste de relevage s’avérerait nécessai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profond : Ouvrage pouvant être enterré plus ou moins profondément, permettant ainsi le passage de véhicul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ea typeface="Times New Roman"/>
              </a:rPr>
              <a:t>	</a:t>
            </a:r>
            <a:r>
              <a:rPr b="1" i="1" lang="fr-FR" sz="1200" spc="-1" strike="noStrike">
                <a:solidFill>
                  <a:srgbClr val="3333cc"/>
                </a:solidFill>
                <a:latin typeface="Times New Roman"/>
              </a:rPr>
              <a:t>Kits de dispersion existant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Kits de dispersion à faible profondeur</a:t>
            </a:r>
            <a:endParaRPr b="0" lang="en-US" sz="1200" spc="-1" strike="noStrike">
              <a:solidFill>
                <a:srgbClr val="000000"/>
              </a:solidFill>
              <a:latin typeface="Times New Roman"/>
            </a:endParaRPr>
          </a:p>
        </p:txBody>
      </p:sp>
      <p:sp>
        <p:nvSpPr>
          <p:cNvPr id="43" name="Rectangle 9"/>
          <p:cNvSpPr/>
          <p:nvPr/>
        </p:nvSpPr>
        <p:spPr>
          <a:xfrm>
            <a:off x="4343400" y="6324480"/>
            <a:ext cx="3276720" cy="440856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aphicFrame>
        <p:nvGraphicFramePr>
          <p:cNvPr id="45" name=""/>
          <p:cNvGraphicFramePr/>
          <p:nvPr/>
        </p:nvGraphicFramePr>
        <p:xfrm>
          <a:off x="457200" y="4038480"/>
          <a:ext cx="6858000" cy="6507360"/>
        </p:xfrm>
        <a:graphic>
          <a:graphicData uri="http://schemas.openxmlformats.org/drawingml/2006/table">
            <a:tbl>
              <a:tblPr/>
              <a:tblGrid>
                <a:gridCol w="3429000"/>
                <a:gridCol w="3429000"/>
              </a:tblGrid>
              <a:tr h="457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ranchées ou lit  d’infiltration à faible profondeur</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it dispersion-irrigation EPARCO</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10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tte technique consiste à réaliser des tranchées d’infiltration larges (0,70 m) ou lit d’infiltration dans la même conception que la filière d’assainissement proprement dite, soit des tuyaux d’épandage avec orifices dirigés vers le bas sur une couche de gravier 10/40 mm. Celles-ci sont dimensionnées en fonction de la perméabilité du sol et du nombre de pièces principales sur lequel est dimensionné le système d’assainissement amon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kit est dimensionné pour 5 pièces principales et ne peut être mis en place qu’après un filtre compact à zéolite EPARCO. Celui-ci est constitué de 50 ml (2 x 25 ml) de drains perforés, avec orifices orientés vers le haut, dans une couche de pouzzolane. Ce système fonctionne sous pression (tuyau percé toujours plein) par l’intermédiaire d’un poste de relevag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348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eu coût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elon la topographie du terrain, l’alimentation du système peut être gravitair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as de végétation racinaire aux abords</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Le cas échéan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urface de terrain devant être disponib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Conçu également pour les sols argil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e haie à 1 mètre du dispositif</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rmet au végétaux adjacent un apport en eau</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6" name="Picture 72" descr=""/>
          <p:cNvPicPr/>
          <p:nvPr/>
        </p:nvPicPr>
        <p:blipFill>
          <a:blip r:embed="rId1"/>
          <a:stretch/>
        </p:blipFill>
        <p:spPr>
          <a:xfrm>
            <a:off x="914400" y="4572000"/>
            <a:ext cx="2705040" cy="2033640"/>
          </a:xfrm>
          <a:prstGeom prst="rect">
            <a:avLst/>
          </a:prstGeom>
          <a:ln w="0">
            <a:noFill/>
          </a:ln>
        </p:spPr>
      </p:pic>
      <p:pic>
        <p:nvPicPr>
          <p:cNvPr id="47" name="Picture 74" descr=""/>
          <p:cNvPicPr/>
          <p:nvPr/>
        </p:nvPicPr>
        <p:blipFill>
          <a:blip r:embed="rId2"/>
          <a:stretch/>
        </p:blipFill>
        <p:spPr>
          <a:xfrm>
            <a:off x="4495680" y="4572000"/>
            <a:ext cx="2295720" cy="20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3"/>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50"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1" name="Text Box 31"/>
          <p:cNvSpPr/>
          <p:nvPr/>
        </p:nvSpPr>
        <p:spPr>
          <a:xfrm>
            <a:off x="442080" y="803160"/>
            <a:ext cx="193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ea typeface="Times New Roman"/>
              </a:rPr>
              <a:t>Kits de dispersion profond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2" name=""/>
          <p:cNvGraphicFramePr/>
          <p:nvPr/>
        </p:nvGraphicFramePr>
        <p:xfrm>
          <a:off x="380880" y="1371600"/>
          <a:ext cx="6934320" cy="7421400"/>
        </p:xfrm>
        <a:graphic>
          <a:graphicData uri="http://schemas.openxmlformats.org/drawingml/2006/table">
            <a:tbl>
              <a:tblPr/>
              <a:tblGrid>
                <a:gridCol w="3467160"/>
                <a:gridCol w="3467160"/>
              </a:tblGrid>
              <a:tr h="304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1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430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assemblage de tunnels préfabriqués (1,20 x 0,80 m), fermés par des cloisons aux extrémités et perforés sur ses côtés latéraux. Il se pose sur un lit de gravier de 10 cm et doit être recouvert d’un géotextile avant son recouvrement par de la terre végéta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on dimensionnement est fonction de la perméabilité et est adaptable en fonction du nombre de pièces principales (PP). En moyenne, 8 à 14 tunnels seraient nécessaires pour 5 PP.</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ou d’une succession de dômes perforés de diamètre de 1,55 m et d’un volume de 900 litres. Les eaux à infiltrer arrivent par le haut du dôme et selon la perméabilité du sol, l’eau s’y infiltre plus ou moins rapidement. Quand le premier dôme est plein, le trop-plein s’écoule dans le dôme suivant grâce à un tuyau d’évacuation, et ainsi de su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étude de sol reste primordiale pour le dimensionnement de ce dispositif.</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316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à emboîter et léger : 11 kg/tunnel)</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ossibilité de circulation de véhicules (si au moins 50 cm de recouvr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de 30 kg)</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3" name="Picture 50" descr=""/>
          <p:cNvPicPr/>
          <p:nvPr/>
        </p:nvPicPr>
        <p:blipFill>
          <a:blip r:embed="rId1"/>
          <a:stretch/>
        </p:blipFill>
        <p:spPr>
          <a:xfrm>
            <a:off x="685800" y="1752480"/>
            <a:ext cx="2895480" cy="1873440"/>
          </a:xfrm>
          <a:prstGeom prst="rect">
            <a:avLst/>
          </a:prstGeom>
          <a:ln w="0">
            <a:noFill/>
          </a:ln>
        </p:spPr>
      </p:pic>
      <p:pic>
        <p:nvPicPr>
          <p:cNvPr id="54" name="Picture 51" descr=""/>
          <p:cNvPicPr/>
          <p:nvPr/>
        </p:nvPicPr>
        <p:blipFill>
          <a:blip r:embed="rId2"/>
          <a:stretch/>
        </p:blipFill>
        <p:spPr>
          <a:xfrm>
            <a:off x="4267080" y="1752480"/>
            <a:ext cx="2714760" cy="186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3:22Z</dcterms:modified>
  <cp:revision>21</cp:revision>
  <dc:subject/>
  <dc:title>FOSSE TOUTES EAUX</dc:title>
</cp:coreProperties>
</file>