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6E4-3D0E-4817-AE6F-3325C02A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D1A-DEF7-4E28-9202-DCBBC31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4EC-4CF5-4C30-8689-414AD4BB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737-D496-44E7-90B8-E51B831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260-ED4A-4159-B69D-3800F4E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A7D-BEB7-4254-A4C1-3513EFE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377-AA42-4025-AE15-FA02FFA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959-BEA6-4334-A217-6C36591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301-CF38-4C59-BCA8-778E8AA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F25-72F3-4289-8ABF-926B928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68F-5801-482C-9B0D-0F45F22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568-2819-4CC7-B73B-37B8C49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52D6-181E-472B-9B84-9758CABF1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45820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filtre à sable horizontal drainé ne doit être mis en place que dans des cas exceptionnels: sols inaptes à l’épandage naturel et impossibilité d’installer un lit filtrant drainé à flux ver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iltre à sable horizontal est composé successivement, dans le sens de l ’écoulement et sur une épaisseur de 0.35 m , des couches suivant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8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1,2 m de gravillons fin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3 m de sable lavé (2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5 m de gravillons fins lavés roulés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8458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répartition des effluents s’effectue sur toute la largeur de la fouille et est assurée par une canalisation dont le fil d’eau est situé à au moins 35 cm du fond de foui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nsemble du filtre, dont la longueur est de 5,50 m maximum, est recouvert d’un géotextile perméable à l’eau et à l’air avant son remblaiement par une couche de terre végétale de 20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838080"/>
            <a:ext cx="8001000" cy="7619760"/>
            <a:chOff x="0" y="838080"/>
            <a:chExt cx="8001000" cy="7619760"/>
          </a:xfrm>
        </p:grpSpPr>
        <p:grpSp>
          <p:nvGrpSpPr>
            <p:cNvPr id="46" name=""/>
            <p:cNvGrpSpPr/>
            <p:nvPr/>
          </p:nvGrpSpPr>
          <p:grpSpPr>
            <a:xfrm>
              <a:off x="0" y="838080"/>
              <a:ext cx="8001000" cy="7619760"/>
              <a:chOff x="0" y="838080"/>
              <a:chExt cx="8001000" cy="761976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0" y="838080"/>
                <a:ext cx="7772400" cy="7441920"/>
                <a:chOff x="0" y="838080"/>
                <a:chExt cx="7772400" cy="744192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1"/>
                <a:srcRect l="0" t="0" r="7618" b="0"/>
                <a:stretch/>
              </p:blipFill>
              <p:spPr>
                <a:xfrm>
                  <a:off x="0" y="838080"/>
                  <a:ext cx="7772400" cy="744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0" y="838080"/>
                  <a:ext cx="335268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6781680" y="800064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57200" y="38858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0" y="32763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25142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72200" y="23619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obligatoi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770" t="3392" r="8850" b="11804"/>
          <a:stretch/>
        </p:blipFill>
        <p:spPr>
          <a:xfrm>
            <a:off x="0" y="18288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3716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0210680"/>
            <a:ext cx="678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6104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a largeur du front de répartition est de 6 m jusqu’à 4 pièces principales et de 8 m pour 5 pièces principales. Au delà, il est ajouté 1 m par pièce principale supplémentai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248520"/>
            <a:ext cx="723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oe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Une fouille de 55 cm de profondeur au minimum doit être réalisée avec une pente régulière de 1 %, la largeur du filtre dépend de la taille de l’habitation. Une rigole est surcreusée en extrémité aval du filtre avec une pente de 0,5 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Si le milieu est vulnérable, un film imperméable remontent le long des parois, peut être placé en fond de fouil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es matériaux, les regards et les canalisations sont mis en places. Un géotextile est placé sur l’ensemble des matériaux avant  remblaiement du filtre par de la terre végéta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lie Chapron</cp:lastModifiedBy>
  <dcterms:modified xsi:type="dcterms:W3CDTF">2009-09-08T06:15:08Z</dcterms:modified>
  <cp:revision>15</cp:revision>
  <dc:subject/>
  <dc:title>PowerPoint Presentation</dc:title>
</cp:coreProperties>
</file>