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269-E9EE-412D-B174-077B0B96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373-B1F5-41DC-94CE-87F7911C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8A7-652E-4199-8C7E-5CD77031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359-E517-4165-B0FB-E44FC098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16B-61EF-470A-8936-0CD55722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8CC-5FF6-4DED-B5DF-F16FC985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2D4-8BCC-48AF-8717-82DD5097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BE5-C3F2-4E42-AD21-116B5234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41D-A4B8-4D8F-959A-478BAAE7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3B3-A6C7-4F5C-9583-BA347450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2BD-02E8-45CC-8F04-8025E538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B79-941E-41F4-B630-2B83432E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97B6-1AAA-46AF-B9D4-09E05257E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LIT D’ÉPANDAGE A FAIBLE PROFOND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520" y="8686800"/>
            <a:ext cx="3276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 lit d’épandage est utilisé dans le cas des sols à dominante sableuse où la réalisation des tranchées d’épandage est difficile. Le sol en place est utilisé comme système épurateu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lit d’épandage est composé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4 m de graviers lavés roulés (10-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géotextile permé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20 m de couche de terre végé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267080" y="8763120"/>
            <a:ext cx="3200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e en œ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ec ce dispositif, l’épandage souterrain est réalisé dans une fouille unique. Le lit d’épandage doit être le plus carré possible pour faciliter la ré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épandage de l’eau s’effectue par infiltration dans le sous-sol, à la fois par le fond de fouille mais également latéra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17"/>
          <p:cNvGrpSpPr/>
          <p:nvPr/>
        </p:nvGrpSpPr>
        <p:grpSpPr>
          <a:xfrm>
            <a:off x="0" y="838080"/>
            <a:ext cx="8001000" cy="7218360"/>
            <a:chOff x="0" y="838080"/>
            <a:chExt cx="8001000" cy="7218360"/>
          </a:xfrm>
        </p:grpSpPr>
        <p:graphicFrame>
          <p:nvGraphicFramePr>
            <p:cNvPr id="46" name="Object 13"/>
            <p:cNvGraphicFramePr/>
            <p:nvPr/>
          </p:nvGraphicFramePr>
          <p:xfrm>
            <a:off x="0" y="838080"/>
            <a:ext cx="8001000" cy="721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38080"/>
                      <a:ext cx="8001000" cy="721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Line 14"/>
            <p:cNvSpPr/>
            <p:nvPr/>
          </p:nvSpPr>
          <p:spPr>
            <a:xfrm flipV="1">
              <a:off x="3276720" y="20570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5"/>
            <p:cNvSpPr/>
            <p:nvPr/>
          </p:nvSpPr>
          <p:spPr>
            <a:xfrm>
              <a:off x="3276720" y="205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6"/>
            <p:cNvSpPr/>
            <p:nvPr/>
          </p:nvSpPr>
          <p:spPr>
            <a:xfrm>
              <a:off x="3429000" y="1905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Rectangle 18"/>
          <p:cNvSpPr/>
          <p:nvPr/>
        </p:nvSpPr>
        <p:spPr>
          <a:xfrm>
            <a:off x="5105520" y="56386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3809880" y="7391520"/>
            <a:ext cx="190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380880" y="2362320"/>
            <a:ext cx="838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5 m d’une habitation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6"/>
          <p:cNvSpPr/>
          <p:nvPr/>
        </p:nvSpPr>
        <p:spPr>
          <a:xfrm>
            <a:off x="152280" y="342900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 m d’un arbre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7"/>
          <p:cNvSpPr/>
          <p:nvPr/>
        </p:nvSpPr>
        <p:spPr>
          <a:xfrm>
            <a:off x="5638680" y="1905120"/>
            <a:ext cx="13716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5 m d’un puit pour l’alimentation en eau potable (obligatoi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5943600" y="3276720"/>
            <a:ext cx="14479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 m des limites de propriété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1371600" y="1600200"/>
            <a:ext cx="1143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Fosse toutes eaux avec préfiltre incorpor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5"/>
          <p:cNvSpPr/>
          <p:nvPr/>
        </p:nvSpPr>
        <p:spPr>
          <a:xfrm>
            <a:off x="3809880" y="9907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6"/>
          <p:cNvSpPr/>
          <p:nvPr/>
        </p:nvSpPr>
        <p:spPr>
          <a:xfrm>
            <a:off x="3886200" y="1371600"/>
            <a:ext cx="1143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Ventilation secondaire avec extracteur statique ou éol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7"/>
          <p:cNvSpPr/>
          <p:nvPr/>
        </p:nvSpPr>
        <p:spPr>
          <a:xfrm>
            <a:off x="1447920" y="3352680"/>
            <a:ext cx="761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répar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8"/>
          <p:cNvSpPr/>
          <p:nvPr/>
        </p:nvSpPr>
        <p:spPr>
          <a:xfrm>
            <a:off x="6477120" y="38862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le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9"/>
          <p:cNvSpPr/>
          <p:nvPr/>
        </p:nvSpPr>
        <p:spPr>
          <a:xfrm>
            <a:off x="6477120" y="4267080"/>
            <a:ext cx="1143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2 coudes à 45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0"/>
          <p:cNvSpPr/>
          <p:nvPr/>
        </p:nvSpPr>
        <p:spPr>
          <a:xfrm>
            <a:off x="6477120" y="464832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erfo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1"/>
          <p:cNvSpPr/>
          <p:nvPr/>
        </p:nvSpPr>
        <p:spPr>
          <a:xfrm>
            <a:off x="6477120" y="7010280"/>
            <a:ext cx="1295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bouc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2"/>
          <p:cNvSpPr/>
          <p:nvPr/>
        </p:nvSpPr>
        <p:spPr>
          <a:xfrm>
            <a:off x="2743200" y="79246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8 m maxim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3"/>
          <p:cNvSpPr/>
          <p:nvPr/>
        </p:nvSpPr>
        <p:spPr>
          <a:xfrm>
            <a:off x="0" y="5410080"/>
            <a:ext cx="457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0 m max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LIT D’ÉPANDAGE A FAIBLE PROFOND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13"/>
          <p:cNvGraphicFramePr/>
          <p:nvPr/>
        </p:nvGraphicFramePr>
        <p:xfrm>
          <a:off x="2286000" y="9982080"/>
          <a:ext cx="3809880" cy="8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82080"/>
                    <a:ext cx="38098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29"/>
          <p:cNvSpPr/>
          <p:nvPr/>
        </p:nvSpPr>
        <p:spPr>
          <a:xfrm>
            <a:off x="0" y="22096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31"/>
          <p:cNvGrpSpPr/>
          <p:nvPr/>
        </p:nvGrpSpPr>
        <p:grpSpPr>
          <a:xfrm>
            <a:off x="0" y="838080"/>
            <a:ext cx="8001000" cy="3276720"/>
            <a:chOff x="0" y="838080"/>
            <a:chExt cx="8001000" cy="3276720"/>
          </a:xfrm>
        </p:grpSpPr>
        <p:sp>
          <p:nvSpPr>
            <p:cNvPr id="72" name="Rectangle 16"/>
            <p:cNvSpPr/>
            <p:nvPr/>
          </p:nvSpPr>
          <p:spPr>
            <a:xfrm>
              <a:off x="0" y="838080"/>
              <a:ext cx="3276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longitudinale (B-B’)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Picture 26" descr=""/>
            <p:cNvPicPr/>
            <p:nvPr/>
          </p:nvPicPr>
          <p:blipFill>
            <a:blip r:embed="rId3"/>
            <a:srcRect l="3005" t="15672" r="4513" b="0"/>
            <a:stretch/>
          </p:blipFill>
          <p:spPr>
            <a:xfrm>
              <a:off x="152280" y="1295280"/>
              <a:ext cx="7848720" cy="27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7"/>
            <p:cNvSpPr/>
            <p:nvPr/>
          </p:nvSpPr>
          <p:spPr>
            <a:xfrm>
              <a:off x="0" y="38862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0" y="2743200"/>
              <a:ext cx="3808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0" y="213372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34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38"/>
          <p:cNvGrpSpPr/>
          <p:nvPr/>
        </p:nvGrpSpPr>
        <p:grpSpPr>
          <a:xfrm>
            <a:off x="0" y="4419720"/>
            <a:ext cx="7695720" cy="3487320"/>
            <a:chOff x="0" y="4419720"/>
            <a:chExt cx="7695720" cy="3487320"/>
          </a:xfrm>
        </p:grpSpPr>
        <p:grpSp>
          <p:nvGrpSpPr>
            <p:cNvPr id="79" name="Group 17"/>
            <p:cNvGrpSpPr/>
            <p:nvPr/>
          </p:nvGrpSpPr>
          <p:grpSpPr>
            <a:xfrm>
              <a:off x="0" y="4419720"/>
              <a:ext cx="7695720" cy="3487320"/>
              <a:chOff x="0" y="4419720"/>
              <a:chExt cx="7695720" cy="3487320"/>
            </a:xfrm>
          </p:grpSpPr>
          <p:grpSp>
            <p:nvGrpSpPr>
              <p:cNvPr id="80" name="Group 12"/>
              <p:cNvGrpSpPr/>
              <p:nvPr/>
            </p:nvGrpSpPr>
            <p:grpSpPr>
              <a:xfrm>
                <a:off x="0" y="4648320"/>
                <a:ext cx="7695720" cy="3258720"/>
                <a:chOff x="0" y="4648320"/>
                <a:chExt cx="7695720" cy="3258720"/>
              </a:xfrm>
            </p:grpSpPr>
            <p:pic>
              <p:nvPicPr>
                <p:cNvPr id="81" name="Picture 9" descr=""/>
                <p:cNvPicPr/>
                <p:nvPr/>
              </p:nvPicPr>
              <p:blipFill>
                <a:blip r:embed="rId4"/>
                <a:srcRect l="14814" t="13107" r="16871" b="0"/>
                <a:stretch/>
              </p:blipFill>
              <p:spPr>
                <a:xfrm>
                  <a:off x="1110600" y="4648320"/>
                  <a:ext cx="6585120" cy="325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5795280"/>
                  <a:ext cx="1347120" cy="31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55120" y="5221440"/>
                  <a:ext cx="879120" cy="266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4" name="Rectangle 15"/>
              <p:cNvSpPr/>
              <p:nvPr/>
            </p:nvSpPr>
            <p:spPr>
              <a:xfrm>
                <a:off x="0" y="4419720"/>
                <a:ext cx="3276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400" spc="-1" strike="noStrike" u="sng">
                    <a:solidFill>
                      <a:srgbClr val="3333cc"/>
                    </a:solidFill>
                    <a:uFillTx/>
                    <a:latin typeface="Times New Roman"/>
                  </a:rPr>
                  <a:t>Coupe transversale (A-A’) 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Line 35"/>
            <p:cNvSpPr/>
            <p:nvPr/>
          </p:nvSpPr>
          <p:spPr>
            <a:xfrm>
              <a:off x="1676520" y="5492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6"/>
            <p:cNvSpPr/>
            <p:nvPr/>
          </p:nvSpPr>
          <p:spPr>
            <a:xfrm>
              <a:off x="685800" y="609624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0,6 à 0,8 m max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7"/>
          <p:cNvSpPr/>
          <p:nvPr/>
        </p:nvSpPr>
        <p:spPr>
          <a:xfrm>
            <a:off x="380880" y="8305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atteindre la profondeur maximum, il faut ajouter une couche de gravier d’une hauteur entre 0 et 0,20 m entre la terre végétale et au dessus des d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matériaux utilisés doivent tous suivre les normes fixées par le DTU 64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9" descr=""/>
          <p:cNvPicPr/>
          <p:nvPr/>
        </p:nvPicPr>
        <p:blipFill>
          <a:blip r:embed="rId7"/>
          <a:srcRect l="13673" t="28168" r="5858" b="33023"/>
          <a:stretch/>
        </p:blipFill>
        <p:spPr>
          <a:xfrm>
            <a:off x="1523880" y="9144000"/>
            <a:ext cx="5791320" cy="2023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4"/>
          <p:cNvSpPr/>
          <p:nvPr/>
        </p:nvSpPr>
        <p:spPr>
          <a:xfrm>
            <a:off x="0" y="91440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hille Sailly</cp:lastModifiedBy>
  <cp:lastPrinted>2014-07-04T10:26:29Z</cp:lastPrinted>
  <dcterms:modified xsi:type="dcterms:W3CDTF">2014-07-04T10:26:30Z</dcterms:modified>
  <cp:revision>14</cp:revision>
  <dc:subject/>
  <dc:title>PowerPoint Presentation</dc:title>
</cp:coreProperties>
</file>