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8002588" cy="11314113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6453-7E70-43C5-91D9-667BA3370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9760" y="3268800"/>
            <a:ext cx="680076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9760" y="6815520"/>
            <a:ext cx="680076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C2E2-E493-42B1-880E-3824A5849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9760" y="3268800"/>
            <a:ext cx="331848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084560" y="3268800"/>
            <a:ext cx="331848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9760" y="6815520"/>
            <a:ext cx="331848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084560" y="6815520"/>
            <a:ext cx="331848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695A-42FD-4C2F-9F56-916DE3D76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9760" y="3268800"/>
            <a:ext cx="218952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899080" y="3268800"/>
            <a:ext cx="218952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198400" y="3268800"/>
            <a:ext cx="218952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9760" y="6815520"/>
            <a:ext cx="218952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899080" y="6815520"/>
            <a:ext cx="218952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198400" y="6815520"/>
            <a:ext cx="218952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E925-7E72-4548-AD15-BE1FE1C61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9760" y="3268800"/>
            <a:ext cx="6800760" cy="67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2FB1-6ECD-4C34-8F98-343ECDFEF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9760" y="3268800"/>
            <a:ext cx="6800760" cy="67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CF43-28E5-4334-81DC-ADF7D3AB0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9760" y="3268800"/>
            <a:ext cx="3318480" cy="67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084560" y="3268800"/>
            <a:ext cx="3318480" cy="67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4791-97CA-4B59-B5F4-5B4F36AFE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1A06-2E62-4FD8-BD84-F5242E801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9760" y="1006200"/>
            <a:ext cx="6800760" cy="87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6CA9-901B-4669-A31C-77F772462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9760" y="3268800"/>
            <a:ext cx="331848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084560" y="3268800"/>
            <a:ext cx="3318480" cy="67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9760" y="6815520"/>
            <a:ext cx="331848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F940-B496-461C-B2E4-7E91B0DA4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9760" y="3268800"/>
            <a:ext cx="3318480" cy="67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084560" y="3268800"/>
            <a:ext cx="331848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084560" y="6815520"/>
            <a:ext cx="331848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8C7C-3F2D-47CF-BC60-39E8B66EA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9760" y="3268800"/>
            <a:ext cx="331848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084560" y="3268800"/>
            <a:ext cx="331848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9760" y="6815520"/>
            <a:ext cx="680076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AA2D-B1F8-4C24-9E10-0664B5496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9760" y="3268800"/>
            <a:ext cx="6800760" cy="67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0120" y="10308960"/>
            <a:ext cx="16668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33480" y="10308960"/>
            <a:ext cx="253332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734080" y="10308960"/>
            <a:ext cx="16668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7FED2-2CE1-4CB5-9588-E46C19610F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533520" y="228600"/>
            <a:ext cx="6858000" cy="533520"/>
          </a:xfrm>
          <a:prstGeom prst="rect">
            <a:avLst/>
          </a:prstGeom>
          <a:solidFill>
            <a:srgbClr val="cce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200" spc="-1" strike="noStrike">
                <a:solidFill>
                  <a:srgbClr val="000000"/>
                </a:solidFill>
                <a:latin typeface="Times New Roman"/>
              </a:rPr>
              <a:t>BAC DEGRAISSEU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380880" y="5562720"/>
            <a:ext cx="350532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cc"/>
                </a:solidFill>
                <a:latin typeface="Times New Roman"/>
              </a:rPr>
              <a:t>L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 bac dégraisseur est un dispositif qui permet la rétention des matières solides, des graisses et des huiles contenues dans les eaux ménagères. Il est préférentiellement utilisé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dans le cadre d’une réhabilitation du dispositif d’assainissement non collectif, pour le pré traitement des eaux ménagères uniqueme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dans le cadre d’une nouvelle installation, lorsque les longueurs de canalisations sont importantes entre la sortie des eaux ménagères et la fosse toutes eaux, ou lorsque l’on a des quantités importantes de grais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Le bac à graisse est alors intercalé entre la sortie des eaux ménagères (ou eaux de cuisine seulement) et la fosse toutes eaux pour retenir les graisses (afin d’éviter le colmatage des canalisation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 u="sng">
                <a:solidFill>
                  <a:srgbClr val="3333cc"/>
                </a:solidFill>
                <a:uFillTx/>
                <a:latin typeface="Times New Roman"/>
              </a:rPr>
              <a:t>Dimensionnement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Le volume minimal du bac dégraisseur est de 200 litres s’il collecte les eaux de cuisines seules et de 500 litres lorsqu’il collecte toutes les eaux ménagères de l’habit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Lorsque les effluents renferment des huiles et des graisses en quantité importante (restaurants par exemple), le bac à graisse est nécessaire et ses caractéristiques doivent faire l’objet d’un calcul spécifique adapté au cas particuli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4191120" y="5486400"/>
            <a:ext cx="327636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 u="sng">
                <a:solidFill>
                  <a:srgbClr val="3333cc"/>
                </a:solidFill>
                <a:uFillTx/>
                <a:latin typeface="Times New Roman"/>
              </a:rPr>
              <a:t>Conception de mise en œuvre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Le bac dégraisseur doit  être  installé  à  moins  d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2 m de l’habitation et est placé avant la fosse en dehors de toutes aires de circu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Les précautions d’installation sont du même ordre que celles prises pour la FT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le fond de fouille doit être parfaitement plat et horizontal, et recouvert d’une couche de sable tassé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le remplissage en eau du bac à graisse doit s’effectuer en même temps que le remblaiement manuel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le couvercle arrivera au niveau du sol et restera facilement accessible pour permettre un bon entretie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une ventilation doit déboucher hors toiture pour évacuer les gaz malodorants produits dans le bac à grais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Il est recommandé d’extraire les graisses tous les 6 mois. Pour des usages particuliers (restaurant, hôtellerie…), la fréquence d’entretien de vidange des bacs à graisse devra être augmenté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Group 30"/>
          <p:cNvGrpSpPr/>
          <p:nvPr/>
        </p:nvGrpSpPr>
        <p:grpSpPr>
          <a:xfrm>
            <a:off x="914400" y="1447920"/>
            <a:ext cx="6095880" cy="3043080"/>
            <a:chOff x="914400" y="1447920"/>
            <a:chExt cx="6095880" cy="3043080"/>
          </a:xfrm>
        </p:grpSpPr>
        <p:grpSp>
          <p:nvGrpSpPr>
            <p:cNvPr id="45" name="Group 29"/>
            <p:cNvGrpSpPr/>
            <p:nvPr/>
          </p:nvGrpSpPr>
          <p:grpSpPr>
            <a:xfrm>
              <a:off x="914400" y="1447920"/>
              <a:ext cx="6095880" cy="3043080"/>
              <a:chOff x="914400" y="1447920"/>
              <a:chExt cx="6095880" cy="3043080"/>
            </a:xfrm>
          </p:grpSpPr>
          <p:pic>
            <p:nvPicPr>
              <p:cNvPr id="46" name="Picture 20" descr=""/>
              <p:cNvPicPr/>
              <p:nvPr/>
            </p:nvPicPr>
            <p:blipFill>
              <a:blip r:embed="rId1"/>
              <a:srcRect l="6142" t="1938" r="14577" b="8441"/>
              <a:stretch/>
            </p:blipFill>
            <p:spPr>
              <a:xfrm>
                <a:off x="1066680" y="1676520"/>
                <a:ext cx="5943600" cy="2814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" name="Rectangle 22"/>
              <p:cNvSpPr/>
              <p:nvPr/>
            </p:nvSpPr>
            <p:spPr>
              <a:xfrm>
                <a:off x="1447920" y="1905120"/>
                <a:ext cx="1066680" cy="228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Times New Roman"/>
                  </a:rPr>
                  <a:t>Niveau du so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Rectangle 23"/>
              <p:cNvSpPr/>
              <p:nvPr/>
            </p:nvSpPr>
            <p:spPr>
              <a:xfrm>
                <a:off x="5334120" y="1447920"/>
                <a:ext cx="1218960" cy="685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Times New Roman"/>
                  </a:rPr>
                  <a:t>Ventilation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Ø 100 m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Rectangle 25"/>
              <p:cNvSpPr/>
              <p:nvPr/>
            </p:nvSpPr>
            <p:spPr>
              <a:xfrm>
                <a:off x="6095880" y="3353040"/>
                <a:ext cx="838440" cy="45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Times New Roman"/>
                  </a:rPr>
                  <a:t>Cloison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Rectangle 27"/>
              <p:cNvSpPr/>
              <p:nvPr/>
            </p:nvSpPr>
            <p:spPr>
              <a:xfrm>
                <a:off x="914400" y="2895840"/>
                <a:ext cx="1371600" cy="761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Rectangle 26"/>
              <p:cNvSpPr/>
              <p:nvPr/>
            </p:nvSpPr>
            <p:spPr>
              <a:xfrm>
                <a:off x="1066680" y="3200400"/>
                <a:ext cx="1219320" cy="228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Times New Roman"/>
                  </a:rPr>
                  <a:t>Cloison brise-je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Rectangle 28"/>
              <p:cNvSpPr/>
              <p:nvPr/>
            </p:nvSpPr>
            <p:spPr>
              <a:xfrm>
                <a:off x="1295280" y="2895840"/>
                <a:ext cx="990720" cy="228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Times New Roman"/>
                  </a:rPr>
                  <a:t>Graiss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" name="Line 24"/>
            <p:cNvSpPr/>
            <p:nvPr/>
          </p:nvSpPr>
          <p:spPr>
            <a:xfrm flipH="1">
              <a:off x="4191120" y="1752840"/>
              <a:ext cx="129528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Rectangle 34"/>
          <p:cNvSpPr/>
          <p:nvPr/>
        </p:nvSpPr>
        <p:spPr>
          <a:xfrm>
            <a:off x="1905120" y="11049120"/>
            <a:ext cx="4190760" cy="26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b2b2b2"/>
                </a:solidFill>
                <a:latin typeface="Times New Roman"/>
              </a:rPr>
              <a:t>Propriété d’AMODIAG Environnement. Reproduction interdite. Créé en Mai 2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chille Sailly</cp:lastModifiedBy>
  <dcterms:modified xsi:type="dcterms:W3CDTF">2013-12-05T14:39:57Z</dcterms:modified>
  <cp:revision>7</cp:revision>
  <dc:subject/>
  <dc:title>PowerPoint Presentation</dc:title>
</cp:coreProperties>
</file>