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8960" bIns="489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8960" bIns="48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05BA4-054F-4230-A781-DFAD7BB70285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DDADE-A2B9-4D09-A2D0-F599625A44C5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5C38-5C5E-491E-A88A-03DC8984F879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21DAA-A7F0-47FE-9917-976E172621A5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C5D42-D9A9-4951-93EE-B3A05B11075D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05C0C-F870-410C-9B4B-55968733697C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0D754-15BF-4929-81EF-B21B7975276C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F5032-DF09-4CD8-B4BA-4368A1043454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BB8E8-DEA2-433E-96B6-7DF988E00D90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329D3-8BF8-49C5-A3A7-BC0CDD454E20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14CF5-6A9B-4CE5-88D6-860D6781B049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1FEA3-7F0E-48CC-91E4-72912BAACC60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BE956-DB91-4922-BCC5-6379440BC2CD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2B91-C82D-4E8C-8F49-8E5830B48CF3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8960" bIns="489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5640"/>
                <a:tab algn="l" pos="1512720"/>
                <a:tab algn="l" pos="2268360"/>
                <a:tab algn="l" pos="302580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E2E1-DAA1-4DAD-AD94-772E90894B7D}" type="slidenum">
              <a:rPr b="0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EB8-5BCB-4DA3-BDC1-9F1543C4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632-1AE8-4AC9-A833-3666F89B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C3A-A2F4-4D28-AB43-7A6914CF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CED-B3F5-49DD-AC3E-DD20C47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ADA6-2C41-49F7-AA0A-6604583F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76A-2985-49E6-8D75-69B5AF6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C12-B438-4A96-8AF6-EB03817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978-E37B-46D1-87FB-CC08ACFB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79DA-5B8C-47D0-90DE-A2B9529A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C19F-C63B-4629-B43B-64CBCB7C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E10-9B8E-41F0-900A-A55CA1B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EB5-F923-4424-AEFD-0444C8B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431A-D1B2-4E16-AEFA-8D7D195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584E-ACEE-47BC-A4D3-F10ABF9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0C2-6E6B-4E65-9A6A-7D759947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F37C-7374-4196-BE0F-BD449E29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65D-09B4-455B-B9FC-F585C2E7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FD6-1ED3-4A7C-9C1B-75045B0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EA6-460B-427E-9CC7-4D0DEA13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9ED-0D07-4E1A-A9BF-BDC0843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A83-9B4F-4CA6-9618-5D7116F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9E0-780A-458D-B7A5-1E7796B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C5-600B-4722-9652-EDCE5F7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E72-1CE4-45DD-8F58-6388EE6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5c5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c5c5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040" y="632160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D91131-DAD6-430F-89E8-22B5C408B27D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971800" y="5224320"/>
            <a:ext cx="36561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rection régionale de l’environne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’aménagement et du lo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160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DB7DDD-0CFA-4192-9B99-0B254CFC5323}" type="slidenum"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3" descr=""/>
          <p:cNvPicPr/>
          <p:nvPr/>
        </p:nvPicPr>
        <p:blipFill>
          <a:blip r:embed="rId2"/>
          <a:stretch/>
        </p:blipFill>
        <p:spPr>
          <a:xfrm>
            <a:off x="165240" y="5916600"/>
            <a:ext cx="67284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50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1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414000" y="2967480"/>
                <a:ext cx="421920" cy="472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781920" y="2967480"/>
                <a:ext cx="367920" cy="472320"/>
              </a:xfrm>
              <a:prstGeom prst="rect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5368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2AD97D-C885-4C81-B51E-0A41693A84C9}" type="datetime">
              <a:rPr b="0" lang="fr-FR" sz="1400" spc="-1" strike="noStrike">
                <a:solidFill>
                  <a:srgbClr val="0000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047760" y="6184800"/>
            <a:ext cx="3655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Direction régionale de l’environnem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de l’aménagement et du lo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17CFFB-95C7-4EB3-91F1-3E969EDC2064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2"/>
          <a:stretch/>
        </p:blipFill>
        <p:spPr>
          <a:xfrm>
            <a:off x="182520" y="228600"/>
            <a:ext cx="1036800" cy="133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pied de page 3"/>
          <p:cNvSpPr/>
          <p:nvPr/>
        </p:nvSpPr>
        <p:spPr>
          <a:xfrm>
            <a:off x="3048120" y="6184800"/>
            <a:ext cx="365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Direction régionale de l’environnemen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de l’aménagement et du lo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1823760"/>
            <a:ext cx="82868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0066"/>
                </a:solidFill>
                <a:latin typeface="Arial"/>
              </a:rPr>
              <a:t>Projets éoliens : </a:t>
            </a:r>
            <a:br>
              <a:rPr sz="4000"/>
            </a:br>
            <a:r>
              <a:rPr b="0" lang="fr-FR" sz="4000" spc="-1" strike="noStrike">
                <a:solidFill>
                  <a:srgbClr val="000066"/>
                </a:solidFill>
                <a:latin typeface="Arial"/>
              </a:rPr>
              <a:t>Retour d’expérience sur le dispositif expérimental d’autorisation unique 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556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Réunion d’information des bureaux d’étude – le 19 mai 201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5D0-6FC9-4FB7-9953-B3120D5239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810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CER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Sommaire inversé (cf. annexe 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Description de la deman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pléments au CERF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acités techniques et financiè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spositions de remises en état et démantèl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. Etude d'impa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ésumé non technique de l’étude d’impa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 volet par thème (bruit, biodiversité, paysage, autre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valuation des incidences Natura 2000, caractéristiques du défrichement si nécessaire et éléments liés aux dérogations "espèces protégées" si nécessaire (Ces documents peuvent éventuellement être intégrés dans l’étude d’impac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. Etude de dangers (y compris concernant les liaisons électrique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ésumé non technique de l’étude de dan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tude de dang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. Documents spécifiques demandés au titre du code de l’urbanis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rtes et plan du projet architectu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otice descrip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. Documents demandés au titre du code de l’environ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rtes et pl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xpertises annexées au dossier (risque, naturaliste..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utorisation d’exploiter une installation de production électrique (si nécessai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. Accords/Avis consultatif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vis DGAC, Météo-France, Défense si nécessaire / disponib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vis maires et propriétaires pour la remise en ét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910-2290-4A1D-87FE-442FD4CFC2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Architecture des DDAU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2565360"/>
            <a:ext cx="69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Arial"/>
              </a:rPr>
              <a:t>Annexe 3 de la note : sommaire inversé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A1E-0887-4C5B-ABEC-DD5CA33C01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60187" t="21961" r="4964" b="25201"/>
          <a:stretch/>
        </p:blipFill>
        <p:spPr>
          <a:xfrm>
            <a:off x="0" y="227664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2360" y="4869000"/>
            <a:ext cx="4316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4724280"/>
            <a:ext cx="86364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060640"/>
            <a:ext cx="215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2060640"/>
            <a:ext cx="302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2060640"/>
            <a:ext cx="403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07920"/>
            <a:ext cx="8748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Pièces du dossier référencées par le CERFA (Code de l’Environnement, Code de l’Urbanisme, Décret 2014-45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1C8-0F9D-487E-AEB9-15DE15F952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19280" y="1341360"/>
            <a:ext cx="705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Autres pièces du doss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33520"/>
          <a:ext cx="7920000" cy="406728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 le projet porte sur une construction susceptible de constituer un </a:t>
                      </a: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bstacle à la navigation aérienne</a:t>
                      </a: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en application du L6352-1 du code des transports (article 8 1° du décr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 accord de la Défen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- accord de la DGA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 le projet porte sur une construction située dans l'étendue du champ de vue mentionné au L5112-1 du code de la défense et/ou située à l'intérieur d'un polygone d'isolement mentionné au L5111-6 du code de la défens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ccord de la Défense (article 8 2° et 3° du décr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ccord de la Zone Aérienne de Défense quant à la configuration de l'installation  (article 8 4° du décr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ccord des opérateurs radars concernés (précisez lesque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rticle 85° du décre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262-9CC5-43CB-81AB-874D31FA7A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86080" y="2700360"/>
            <a:ext cx="61722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rci de votre attent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48C-9588-4A1B-B8BE-5F3CBA195145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29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565360"/>
            <a:ext cx="83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Principes de l’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Bilan régio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Imprimé CERFA et architecture des DD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C1A-DFF5-4F43-8C7C-1BA7D64133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9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Principes de l’AU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989000"/>
            <a:ext cx="831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Fusion dans une seule autorisation délivrée par le préfet de département de plusieurs décisions nécessaires à la réalisation d'installations </a:t>
            </a: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autorisation ICPE, permis de construire, puis si nécessaire autorisation de défrichement, dérogation "espèces protégées" et autorisations au titre du code de l'énergi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En région Nord Pas-de-Calais, sont concernées par l’autorisation unique : les éoliennes terrestres, les installations de méthanisation et les installations de production d'électricité ou de biométhane à partir de biogaz actuellement soumises à autorisation ICP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1979640" cy="180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2160720" cy="180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E5A-3F6A-4102-A7AA-D6AACD406F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9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Principes de l’AU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989000"/>
            <a:ext cx="838836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Même niveau de protection de l’environnement 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Intérêts à protéger : repris à l’identique</a:t>
            </a:r>
            <a:r>
              <a:rPr b="0" lang="fr-FR" sz="1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es dispositions réglementaires de fond (ICPE, urbanisme, défrichement, énergie, espèces protégées) continuent de s’appliquer :  </a:t>
            </a:r>
            <a:r>
              <a:rPr b="0" lang="fr-FR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n ne déroge qu’à leurs règles de procé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664000" indent="-228600">
              <a:lnSpc>
                <a:spcPct val="100000"/>
              </a:lnSpc>
              <a:tabLst>
                <a:tab algn="l" pos="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928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a procédure est celle des autorisations ICPE avec des adaptations 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e Préfet de département délivre (ou refuse) l’A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’IIC joue le rôle d’ensembl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es services sont associés en tant que de besoin en fonction du projet et de ses incidences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Il est possible de refuser le projet avant l’E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Passage en CDNPS facultati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00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Rejet tacite si pas de décision 3 mois après le rapport du 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8FA-FC0A-4D88-9F3E-4DFB1D24A7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Bilan des DDAU déposé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989000"/>
            <a:ext cx="8317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1" lang="fr-FR" sz="28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3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dossiers déposés do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6 dossiers ayant fait l’objet d’une demande de complément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    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Instruction terminée  (1 dossier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 dossier ayant fait l’objet d’une proposition d’AP refus lors  de l’examen préa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DB8-C385-4814-A878-B2440DE10E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9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Bilan des DDAU déposé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989000"/>
            <a:ext cx="813780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9360" indent="-466560">
              <a:lnSpc>
                <a:spcPct val="100000"/>
              </a:lnSpc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En cours d’instruction (12 dossiers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466560">
              <a:lnSpc>
                <a:spcPct val="100000"/>
              </a:lnSpc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 dossier ayant fait l’objet d’une 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recevabilité</a:t>
            </a: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, sans demande de compléments ni de non-recevabilité (EP termin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7 dossiers ayant fait l’objet d’une non recevabilité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4665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4 dossiers recevables</a:t>
            </a: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pour la mise à l’EP</a:t>
            </a: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4665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3 dossiers en attente de complé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3 dossiers en cours d’instruction sur la recevabil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1 dossier en attente de complémen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4665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466560">
              <a:lnSpc>
                <a:spcPct val="100000"/>
              </a:lnSpc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E53-7403-42D6-AE38-81C22FBEB5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9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Bilan des DDAU déposé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989000"/>
            <a:ext cx="8066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424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Principaux motifs de non recevabilité par ordre d’importanc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Biodiversité : un motif récurrent de non recevabilité  (défaut de prise en compte des enjeux dans l’état initial)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=&gt; mise à jour du guide DDAE sur ce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Paysages : sites classés et/ou inscrits, patrimoine UNESCO, impact des autres PE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Opérateurs radars : les avis suite aux pré-consultations ne sont pas valables ;  1 dossier a fait l’objet d’un avis défavorable de la Défense (=&gt; AP refus direc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Arial"/>
              </a:rPr>
              <a:t>DDTM / urbanisme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493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618-2D57-432C-8006-5B858F79C0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9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Architecture des DDAU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989000"/>
            <a:ext cx="81378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Note BRTICP/2015-61/CS envoyée au SER et à la FEE sur le format des DDAU (prochainement sur Internet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15000"/>
              </a:lnSpc>
              <a:spcBef>
                <a:spcPts val="62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Segmenter les dossiers en 8 sous dossiers (cf. annexe 1 de la note) dont le CERFA national 15293*01 (annexe 2) et un sommaire inversé (annexe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15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Limiter la taille de l’ensemble du dossier à 600 MO en ne dépassant pas 300 MO par fichi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15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Nommer les fichiers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Dept-Développeur-NomduProjet-NomDocu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(ex : 59-EDF-EoliennesduNord-5-1-EtudedeDangers.pd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6021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3" h="21600">
                <a:moveTo>
                  <a:pt x="10530" y="3794"/>
                </a:moveTo>
                <a:lnTo>
                  <a:pt x="24543" y="10800"/>
                </a:lnTo>
                <a:lnTo>
                  <a:pt x="10530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581-581E-4D8C-A463-B44D732784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Arial"/>
              </a:rPr>
              <a:t>Architecture des DDAU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2565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  <a:ea typeface="Arial"/>
              </a:rPr>
              <a:t>Annexe 1 de la no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A0-2F9B-4E09-BC64-4E48A47805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4:59:42Z</dcterms:created>
  <dc:creator>DOZIÈRES Alexandre (Chef de service) - DREAL Nord-PdC/SR</dc:creator>
  <dc:description/>
  <dc:language>en-US</dc:language>
  <cp:lastModifiedBy>dreal</cp:lastModifiedBy>
  <dcterms:modified xsi:type="dcterms:W3CDTF">2015-05-19T08:57:50Z</dcterms:modified>
  <cp:revision>152</cp:revision>
  <dc:subject/>
  <dc:title>Présentation PowerPoint</dc:title>
</cp:coreProperties>
</file>