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2440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27840" cy="47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0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0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ftr" idx="5"/>
          </p:nvPr>
        </p:nvSpPr>
        <p:spPr>
          <a:xfrm>
            <a:off x="0" y="10154880"/>
            <a:ext cx="3260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4880"/>
            <a:ext cx="326088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8DA4A-5F89-4E63-870A-DDD602FE7C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29280" cy="479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BA8-9A2E-4556-B0E9-46547CE1A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040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63920"/>
            <a:ext cx="905040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999-BCEA-4417-9E6C-2BAEBFA8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080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6392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0800" y="436392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B8CE-382D-4674-A755-14320EA06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3280" y="176796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3280" y="176796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6392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3280" y="436392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3280" y="4363920"/>
            <a:ext cx="291384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23A2-2F13-4CEB-BC6A-28628FB1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0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C162-192A-4AE2-91D0-BACCE521D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0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9BF-A980-4AAE-9D0D-D1184037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64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0800" y="1767960"/>
            <a:ext cx="44164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E42-34C8-49C6-91F1-63205B72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5949-CFDC-4339-811B-9FF0E2A7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98080"/>
            <a:ext cx="905040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478-5AE7-4CD7-8A36-DCDF50D4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0800" y="1767960"/>
            <a:ext cx="44164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6392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4A72-ED04-4858-87FA-EE8F9DCF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648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080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0800" y="436392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2EF3-3CFD-4C5D-9E4F-089975BE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0800" y="1767960"/>
            <a:ext cx="441648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63920"/>
            <a:ext cx="9050400" cy="237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99A7-A0D2-4803-B5B5-96F4696A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98080"/>
            <a:ext cx="905040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040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27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7484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2740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32C6E3-C7FF-4C3E-A386-4D0C3724E7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92160" y="5040360"/>
            <a:ext cx="8096400" cy="1209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30360" y="2340000"/>
            <a:ext cx="88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950e"/>
                </a:solidFill>
                <a:latin typeface="Comic Sans MS"/>
              </a:rPr>
              <a:t>Ville de BAILLE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950e"/>
                </a:solidFill>
                <a:latin typeface="Comic Sans MS"/>
              </a:rPr>
              <a:t>Semaine du développement durabl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920000" y="179280"/>
            <a:ext cx="2008080" cy="18003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720720" y="0"/>
            <a:ext cx="1308240" cy="22287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9860000">
            <a:off x="712800" y="4939920"/>
            <a:ext cx="1046160" cy="1181160"/>
          </a:xfrm>
          <a:custGeom>
            <a:avLst/>
            <a:gdLst>
              <a:gd name="textAreaLeft" fmla="*/ 193680 w 1046160"/>
              <a:gd name="textAreaRight" fmla="*/ 773640 w 1046160"/>
              <a:gd name="textAreaTop" fmla="*/ 200160 h 1181160"/>
              <a:gd name="textAreaBottom" fmla="*/ 981000 h 1181160"/>
            </a:gdLst>
            <a:ahLst/>
            <a:rect l="textAreaLeft" t="textAreaTop" r="textAreaRight" b="textAreaBottom"/>
            <a:pathLst>
              <a:path w="21600" h="21800">
                <a:moveTo>
                  <a:pt x="13079" y="0"/>
                </a:moveTo>
                <a:lnTo>
                  <a:pt x="21600" y="10800"/>
                </a:lnTo>
                <a:lnTo>
                  <a:pt x="13079" y="21800"/>
                </a:lnTo>
                <a:lnTo>
                  <a:pt x="13079" y="17936"/>
                </a:lnTo>
                <a:lnTo>
                  <a:pt x="4000" y="17936"/>
                </a:lnTo>
                <a:lnTo>
                  <a:pt x="4000" y="3664"/>
                </a:lnTo>
                <a:lnTo>
                  <a:pt x="13079" y="3664"/>
                </a:lnTo>
                <a:lnTo>
                  <a:pt x="13079" y="0"/>
                </a:lnTo>
                <a:moveTo>
                  <a:pt x="0" y="3664"/>
                </a:moveTo>
                <a:lnTo>
                  <a:pt x="0" y="17936"/>
                </a:lnTo>
                <a:lnTo>
                  <a:pt x="1000" y="17936"/>
                </a:lnTo>
                <a:lnTo>
                  <a:pt x="1000" y="3664"/>
                </a:lnTo>
                <a:lnTo>
                  <a:pt x="0" y="3664"/>
                </a:lnTo>
                <a:moveTo>
                  <a:pt x="2000" y="3664"/>
                </a:moveTo>
                <a:lnTo>
                  <a:pt x="2000" y="17936"/>
                </a:lnTo>
                <a:lnTo>
                  <a:pt x="3000" y="17936"/>
                </a:lnTo>
                <a:lnTo>
                  <a:pt x="3000" y="3664"/>
                </a:lnTo>
                <a:lnTo>
                  <a:pt x="2000" y="3664"/>
                </a:ln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9860000">
            <a:off x="1607760" y="4581000"/>
            <a:ext cx="1112760" cy="984240"/>
          </a:xfrm>
          <a:custGeom>
            <a:avLst/>
            <a:gdLst>
              <a:gd name="textAreaLeft" fmla="*/ 0 w 1112760"/>
              <a:gd name="textAreaRight" fmla="*/ 1112760 w 1112760"/>
              <a:gd name="textAreaTop" fmla="*/ 0 h 984240"/>
              <a:gd name="textAreaBottom" fmla="*/ 984600 h 98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19860000">
            <a:off x="4803480" y="2758680"/>
            <a:ext cx="1157400" cy="90000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9860000">
            <a:off x="3706920" y="3339720"/>
            <a:ext cx="1176120" cy="949320"/>
          </a:xfrm>
          <a:custGeom>
            <a:avLst/>
            <a:gdLst>
              <a:gd name="textAreaLeft" fmla="*/ 0 w 1176120"/>
              <a:gd name="textAreaRight" fmla="*/ 1176480 w 11761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9860000">
            <a:off x="2654280" y="3993840"/>
            <a:ext cx="1128600" cy="9651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440" y="4319640"/>
            <a:ext cx="8985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2008/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Commencer par être une collectivité exemplaire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20720" y="6119640"/>
            <a:ext cx="71992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Intégration du DD dans le programme muni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60720" y="2519280"/>
            <a:ext cx="21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À partir de sept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3046320"/>
            <a:ext cx="1440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Mai juin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19280" y="3586320"/>
            <a:ext cx="18003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Mars avril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60360" y="4140360"/>
            <a:ext cx="107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Janv 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40000" y="5389560"/>
            <a:ext cx="719928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Recrutement d'un chargé de mission 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 – </a:t>
            </a: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ensibilisation de tous les services à l'AG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4859280"/>
            <a:ext cx="251928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Diagnostic inter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0000" y="4140360"/>
            <a:ext cx="6840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Concertation/définition stratégie 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Rédaction Ag 21 - vali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59280" y="3408480"/>
            <a:ext cx="341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Mise en place des mesu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- é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9280" y="1979640"/>
            <a:ext cx="214452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1er semestr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0360" y="2689200"/>
            <a:ext cx="341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Réalisation du bilan carbone patrimoine/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19860000">
            <a:off x="6972120" y="1409760"/>
            <a:ext cx="1157040" cy="900000"/>
          </a:xfrm>
          <a:custGeom>
            <a:avLst/>
            <a:gdLst>
              <a:gd name="textAreaLeft" fmla="*/ 0 w 1157040"/>
              <a:gd name="textAreaRight" fmla="*/ 1157040 w 115704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0000" y="1079640"/>
            <a:ext cx="250488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À partir 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f950e"/>
                </a:solidFill>
                <a:latin typeface="Comic Sans MS"/>
              </a:rPr>
              <a:t>2ème semestre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40360" y="2689200"/>
            <a:ext cx="341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Réalisation du bilan carbone patrimoine/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920000" y="1979640"/>
            <a:ext cx="34196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Agenda 21 lo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0360" y="2700360"/>
            <a:ext cx="3240360" cy="720720"/>
          </a:xfrm>
          <a:prstGeom prst="roundRect">
            <a:avLst>
              <a:gd name="adj" fmla="val 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860000">
            <a:off x="5882760" y="2130120"/>
            <a:ext cx="1157400" cy="900000"/>
          </a:xfrm>
          <a:custGeom>
            <a:avLst/>
            <a:gdLst>
              <a:gd name="textAreaLeft" fmla="*/ 0 w 1157400"/>
              <a:gd name="textAreaRight" fmla="*/ 1157400 w 11574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4c1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016760" y="2687760"/>
            <a:ext cx="3063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Bilan carbone Patrimoine et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4 piliers dans l'Agenda 21 loc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60000">
            <a:off x="1248840" y="2340000"/>
            <a:ext cx="397512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996633"/>
                </a:solidFill>
                <a:latin typeface="Comic Sans MS"/>
              </a:rPr>
              <a:t>La cohésion soci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21540000">
            <a:off x="6114960" y="4687920"/>
            <a:ext cx="414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996633"/>
                </a:solidFill>
                <a:latin typeface="Comic Sans MS"/>
              </a:rPr>
              <a:t>Une économie pluri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00720" y="2340000"/>
            <a:ext cx="36957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996633"/>
                </a:solidFill>
                <a:latin typeface="Comic Sans MS"/>
              </a:rPr>
              <a:t>La protection de l'environn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11200" y="4051440"/>
            <a:ext cx="3267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0000" y="4680000"/>
            <a:ext cx="26017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996633"/>
                </a:solidFill>
                <a:latin typeface="Comic Sans MS"/>
              </a:rPr>
              <a:t>La gouver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2760000">
            <a:off x="3992760" y="2806200"/>
            <a:ext cx="2340000" cy="2421000"/>
          </a:xfrm>
          <a:custGeom>
            <a:avLst/>
            <a:gdLst>
              <a:gd name="textAreaLeft" fmla="*/ 0 w 2340000"/>
              <a:gd name="textAreaRight" fmla="*/ 2340000 w 2340000"/>
              <a:gd name="textAreaTop" fmla="*/ 0 h 2421000"/>
              <a:gd name="textAreaBottom" fmla="*/ 2421360 h 2421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883" y="7987"/>
                </a:lnTo>
                <a:lnTo>
                  <a:pt x="4883" y="9894"/>
                </a:lnTo>
                <a:lnTo>
                  <a:pt x="9894" y="9894"/>
                </a:lnTo>
                <a:lnTo>
                  <a:pt x="9894" y="4883"/>
                </a:lnTo>
                <a:lnTo>
                  <a:pt x="7987" y="4883"/>
                </a:lnTo>
                <a:lnTo>
                  <a:pt x="10800" y="0"/>
                </a:lnTo>
                <a:lnTo>
                  <a:pt x="13613" y="4883"/>
                </a:lnTo>
                <a:lnTo>
                  <a:pt x="11706" y="4883"/>
                </a:lnTo>
                <a:lnTo>
                  <a:pt x="11706" y="9894"/>
                </a:lnTo>
                <a:lnTo>
                  <a:pt x="16717" y="9894"/>
                </a:lnTo>
                <a:lnTo>
                  <a:pt x="16717" y="7987"/>
                </a:lnTo>
                <a:lnTo>
                  <a:pt x="21600" y="10800"/>
                </a:lnTo>
                <a:lnTo>
                  <a:pt x="16717" y="13613"/>
                </a:lnTo>
                <a:lnTo>
                  <a:pt x="16717" y="11706"/>
                </a:lnTo>
                <a:lnTo>
                  <a:pt x="11706" y="11706"/>
                </a:lnTo>
                <a:lnTo>
                  <a:pt x="11706" y="16717"/>
                </a:lnTo>
                <a:lnTo>
                  <a:pt x="13613" y="16717"/>
                </a:lnTo>
                <a:lnTo>
                  <a:pt x="10800" y="21600"/>
                </a:lnTo>
                <a:lnTo>
                  <a:pt x="7987" y="16717"/>
                </a:lnTo>
                <a:lnTo>
                  <a:pt x="9894" y="16717"/>
                </a:lnTo>
                <a:lnTo>
                  <a:pt x="9894" y="11706"/>
                </a:lnTo>
                <a:lnTo>
                  <a:pt x="4883" y="11706"/>
                </a:lnTo>
                <a:lnTo>
                  <a:pt x="4883" y="13613"/>
                </a:lnTo>
                <a:close/>
              </a:path>
            </a:pathLst>
          </a:custGeom>
          <a:solidFill>
            <a:srgbClr val="ff95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1979640"/>
            <a:ext cx="3959280" cy="1440000"/>
          </a:xfrm>
          <a:prstGeom prst="ellipse">
            <a:avLst/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940360" y="2160720"/>
            <a:ext cx="3600360" cy="1439640"/>
          </a:xfrm>
          <a:prstGeom prst="ellipse">
            <a:avLst/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00000" y="4500720"/>
            <a:ext cx="3600720" cy="1260360"/>
          </a:xfrm>
          <a:prstGeom prst="ellipse">
            <a:avLst/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940360" y="4319640"/>
            <a:ext cx="3959280" cy="1439640"/>
          </a:xfrm>
          <a:prstGeom prst="ellipse">
            <a:avLst/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79280"/>
            <a:ext cx="809964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'agenda 21 comme outil de coordination des actions D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0" y="3770280"/>
            <a:ext cx="3060720" cy="7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Exemples d'actions mises en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20720" y="1258920"/>
            <a:ext cx="3240000" cy="2160720"/>
          </a:xfrm>
          <a:prstGeom prst="roundRect">
            <a:avLst>
              <a:gd name="adj" fmla="val 69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80000" y="4140360"/>
            <a:ext cx="2519640" cy="2700000"/>
          </a:xfrm>
          <a:custGeom>
            <a:avLst/>
            <a:gdLst>
              <a:gd name="textAreaLeft" fmla="*/ 360 w 2519640"/>
              <a:gd name="textAreaRight" fmla="*/ 2519280 w 2519640"/>
              <a:gd name="textAreaTop" fmla="*/ 360 h 2700000"/>
              <a:gd name="textAreaBottom" fmla="*/ 2699640 h 2700000"/>
            </a:gdLst>
            <a:ahLst/>
            <a:rect l="textAreaLeft" t="textAreaTop" r="textAreaRight" b="textAreaBottom"/>
            <a:pathLst>
              <a:path w="21600" h="23146">
                <a:moveTo>
                  <a:pt x="14" y="0"/>
                </a:moveTo>
                <a:arcTo wR="14" hR="14" stAng="16200000" swAng="-5400000"/>
                <a:lnTo>
                  <a:pt x="0" y="23132"/>
                </a:lnTo>
                <a:arcTo wR="14" hR="14" stAng="10800000" swAng="-5400000"/>
                <a:lnTo>
                  <a:pt x="21586" y="23146"/>
                </a:lnTo>
                <a:arcTo wR="14" hR="14" stAng="5400000" swAng="-5400000"/>
                <a:lnTo>
                  <a:pt x="21600" y="14"/>
                </a:lnTo>
                <a:arcTo wR="14" hR="14" stAng="0" swAng="-5400000"/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4680000"/>
            <a:ext cx="4319640" cy="2700360"/>
          </a:xfrm>
          <a:prstGeom prst="roundRect">
            <a:avLst>
              <a:gd name="adj" fmla="val 56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59280" y="1079640"/>
            <a:ext cx="5040360" cy="2519280"/>
          </a:xfrm>
          <a:prstGeom prst="roundRect">
            <a:avLst>
              <a:gd name="adj" fmla="val 6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Ouvrir la réflexion à toute la population 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00000" y="1141560"/>
            <a:ext cx="84600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996633"/>
                </a:solidFill>
                <a:latin typeface="Comic Sans MS"/>
              </a:rPr>
              <a:t>Profiter de la SDD pour sensibiliser les Bailleuloi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915320" y="4432320"/>
            <a:ext cx="1992240" cy="2905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75040" y="2157480"/>
            <a:ext cx="4672080" cy="23144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25320" y="1803240"/>
            <a:ext cx="3013200" cy="41706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3600360" y="4500720"/>
            <a:ext cx="4635720" cy="230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Programmation de la sema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800360"/>
            <a:ext cx="702000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996633"/>
                </a:solidFill>
                <a:latin typeface="Comic Sans MS"/>
              </a:rPr>
              <a:t>3 axes de travail pour l'organisation de la semaine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20720" y="2879640"/>
            <a:ext cx="5580000" cy="126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* S'appuyer sur l'ex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pour « </a:t>
            </a:r>
            <a:r>
              <a:rPr b="1" i="1" lang="fr-FR" sz="1800" spc="-1" strike="noStrike">
                <a:solidFill>
                  <a:srgbClr val="996633"/>
                </a:solidFill>
                <a:latin typeface="Comic Sans MS"/>
              </a:rPr>
              <a:t>aller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 » sensibiliser des publics diffé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20720" y="5219640"/>
            <a:ext cx="558000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* Organiser des évènements culturels / attra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pour « </a:t>
            </a:r>
            <a:r>
              <a:rPr b="1" i="1" lang="fr-FR" sz="1800" spc="-1" strike="noStrike">
                <a:solidFill>
                  <a:srgbClr val="996633"/>
                </a:solidFill>
                <a:latin typeface="Comic Sans MS"/>
              </a:rPr>
              <a:t>faire venir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 » l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3959280"/>
            <a:ext cx="3240000" cy="1260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Donner à chacun les moy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de devenir éco-citoy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00720" y="2700360"/>
            <a:ext cx="360360" cy="3959280"/>
          </a:xfrm>
          <a:custGeom>
            <a:avLst/>
            <a:gdLst>
              <a:gd name="textAreaLeft" fmla="*/ 0 w 360360"/>
              <a:gd name="textAreaRight" fmla="*/ 129960 w 360360"/>
              <a:gd name="textAreaTop" fmla="*/ 102960 h 3959280"/>
              <a:gd name="textAreaBottom" fmla="*/ 3856320 h 395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Programmation de la semaine (exemples)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00000" y="1440000"/>
            <a:ext cx="828036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* S'appuyer sur l'exis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pour « aller » sensibiliser des publics diffé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19280" y="3419640"/>
            <a:ext cx="234000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Cours de cuisine 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Centre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400720" y="3419640"/>
            <a:ext cx="234000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Atel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économies d'éner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École des con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9280" y="5219640"/>
            <a:ext cx="234000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Visite centre de 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Conseil municip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Des jeu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9640" y="5219640"/>
            <a:ext cx="234000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Repas b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Dans les éc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820000" y="6480000"/>
            <a:ext cx="719280" cy="5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etc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999640" y="179280"/>
            <a:ext cx="928440" cy="900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0" y="0"/>
            <a:ext cx="539640" cy="7559640"/>
          </a:xfrm>
          <a:custGeom>
            <a:avLst/>
            <a:gdLst>
              <a:gd name="textAreaLeft" fmla="*/ 360 w 539640"/>
              <a:gd name="textAreaRight" fmla="*/ 539280 w 539640"/>
              <a:gd name="textAreaTop" fmla="*/ 360 h 7559640"/>
              <a:gd name="textAreaBottom" fmla="*/ 7559280 h 7559640"/>
            </a:gdLst>
            <a:ahLst/>
            <a:rect l="textAreaLeft" t="textAreaTop" r="textAreaRight" b="textAreaBottom"/>
            <a:pathLst>
              <a:path w="21600" h="302400">
                <a:moveTo>
                  <a:pt x="63" y="0"/>
                </a:moveTo>
                <a:arcTo wR="63" hR="63" stAng="16200000" swAng="-5400000"/>
                <a:lnTo>
                  <a:pt x="0" y="302337"/>
                </a:lnTo>
                <a:arcTo wR="63" hR="63" stAng="10800000" swAng="-5400000"/>
                <a:lnTo>
                  <a:pt x="21537" y="302400"/>
                </a:lnTo>
                <a:arcTo wR="63" hR="63" stAng="5400000" swAng="-5400000"/>
                <a:lnTo>
                  <a:pt x="21600" y="63"/>
                </a:lnTo>
                <a:arcTo wR="63" hR="63" stAng="0" swAng="-5400000"/>
                <a:close/>
              </a:path>
            </a:pathLst>
          </a:custGeom>
          <a:solidFill>
            <a:srgbClr val="ff950e"/>
          </a:solidFill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20000" y="7020000"/>
            <a:ext cx="1800360" cy="144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9539280" y="5378040"/>
            <a:ext cx="1440" cy="1841400"/>
          </a:xfrm>
          <a:prstGeom prst="line">
            <a:avLst/>
          </a:prstGeom>
          <a:ln w="3600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79280"/>
            <a:ext cx="73803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Le développement durable à Bailleul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200" spc="-1" strike="noStrike">
                <a:solidFill>
                  <a:srgbClr val="ff950e"/>
                </a:solidFill>
                <a:latin typeface="Comic Sans MS"/>
              </a:rPr>
              <a:t>Programmation de la semain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360360"/>
            <a:ext cx="540000" cy="539640"/>
          </a:xfrm>
          <a:prstGeom prst="ellipse">
            <a:avLst/>
          </a:prstGeom>
          <a:solidFill>
            <a:srgbClr val="ff42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1440000"/>
            <a:ext cx="8280360" cy="12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* Organiser des évènements culturels / attractif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pour « </a:t>
            </a:r>
            <a:r>
              <a:rPr b="1" i="1" lang="fr-FR" sz="1800" spc="-1" strike="noStrike">
                <a:solidFill>
                  <a:srgbClr val="996633"/>
                </a:solidFill>
                <a:latin typeface="Comic Sans MS"/>
              </a:rPr>
              <a:t>faire venir</a:t>
            </a:r>
            <a:r>
              <a:rPr b="1" lang="fr-FR" sz="1800" spc="-1" strike="noStrike">
                <a:solidFill>
                  <a:srgbClr val="996633"/>
                </a:solidFill>
                <a:latin typeface="Comic Sans MS"/>
              </a:rPr>
              <a:t> » le publ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20720" y="3060720"/>
            <a:ext cx="414036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Conférence inau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ur les changements clima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19640" y="3060720"/>
            <a:ext cx="4140360" cy="107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Film Déb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ur l'industrie agro alimen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20720" y="4500720"/>
            <a:ext cx="8640720" cy="23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95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 u="sng">
                <a:solidFill>
                  <a:srgbClr val="996633"/>
                </a:solidFill>
                <a:uFillTx/>
                <a:latin typeface="Comic Sans MS"/>
              </a:rPr>
              <a:t>1er salon de la vie durable : devenons éco citoyens au quotidie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tands associatifs, stands d'entreprises DD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atelier pour enfa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pectacle/théâtre de la Cie des tambours batt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 </a:t>
            </a:r>
            <a:r>
              <a:rPr b="0" lang="fr-FR" sz="1800" spc="-1" strike="noStrike">
                <a:solidFill>
                  <a:srgbClr val="996633"/>
                </a:solidFill>
                <a:latin typeface="Comic Sans MS"/>
              </a:rPr>
              <a:t>spectacle de danse Cie Coincida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30360" y="2340000"/>
            <a:ext cx="882000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950e"/>
                </a:solidFill>
                <a:latin typeface="Comic Sans MS"/>
              </a:rPr>
              <a:t>Ville de BAILLE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950e"/>
                </a:solidFill>
                <a:latin typeface="Comic Sans MS"/>
              </a:rPr>
              <a:t>Semaine du développement durabl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0:02:59Z</dcterms:created>
  <dc:creator>Aurelie Dusautois</dc:creator>
  <dc:description/>
  <dc:language>en-US</dc:language>
  <cp:lastModifiedBy>cdieval</cp:lastModifiedBy>
  <dcterms:modified xsi:type="dcterms:W3CDTF">2010-03-23T10:24:14Z</dcterms:modified>
  <cp:revision>1</cp:revision>
  <dc:subject/>
  <dc:title>Présentation PowerPoint</dc:title>
</cp:coreProperties>
</file>