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7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E51B-32C2-458B-961A-127688010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E4EF-1F8F-453E-B745-8387FF0D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C01A-AE30-46DF-93CC-AA04AF834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9F9E-1BCC-4AFF-AF91-B475BBB84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94E2-7E68-4187-A4CE-9DC85652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1C21-85C5-410A-9EF5-AE6797897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C847-30F0-41B5-9F56-6C9DF777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4FD8-CAEF-4F36-9F77-5A22A5485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69DA-6D3F-4ACE-864E-EF0F9E32B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4FD2-744F-4E71-8503-A5B6E41C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8ABF-1A00-49C0-97AB-8B16396A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347A-C6AF-4F93-8981-18766DFA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14783-A648-47F9-AA06-ADCC28B61D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éveloppement durable pour la Cité Scolaire Eugène Thom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3857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84807"/>
                </a:solidFill>
                <a:latin typeface="Calibri"/>
              </a:rPr>
              <a:t>Projet de traitement des déchets organiques du restaurant scol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304920" y="152280"/>
            <a:ext cx="2171520" cy="2071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INISTERE JEUNESSE EDUCATION RECHERC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venue Léo Lagran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59530 LE QUESNO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éléphone : 03 27 20 54 8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élécopie : 03 27 20 54 9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logo cmjn"/>
          <p:cNvPicPr/>
          <p:nvPr/>
        </p:nvPicPr>
        <p:blipFill>
          <a:blip r:embed="rId3"/>
          <a:stretch/>
        </p:blipFill>
        <p:spPr>
          <a:xfrm>
            <a:off x="685800" y="533520"/>
            <a:ext cx="1447920" cy="39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Ellipse 1"/>
          <p:cNvSpPr/>
          <p:nvPr/>
        </p:nvSpPr>
        <p:spPr>
          <a:xfrm>
            <a:off x="380880" y="838080"/>
            <a:ext cx="4800600" cy="35910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Une équi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nsieur FRISON, Professeur SVT, Pilote du proj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nsieur DELATTRE, Professeur Physique-Chim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L’équipe de Dir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onsieur ROUGRAFF, Directeur de SEG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L’espace restau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Ellipse 2"/>
          <p:cNvSpPr/>
          <p:nvPr/>
        </p:nvSpPr>
        <p:spPr>
          <a:xfrm>
            <a:off x="4419720" y="838080"/>
            <a:ext cx="4343400" cy="3372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Des élè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premières scientifiques :  S1 et S2 (TP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Ellipse 3"/>
          <p:cNvSpPr/>
          <p:nvPr/>
        </p:nvSpPr>
        <p:spPr>
          <a:xfrm>
            <a:off x="2819520" y="3276720"/>
            <a:ext cx="4343400" cy="3200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</a:rPr>
              <a:t>Des partenaires extéri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Conseil Régional du No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Le Parc Naturel Rég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A.D.E.M.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Communauté de Communes du Quercit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BIOZIS, Entrepri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ZoneTexte 5"/>
          <p:cNvSpPr/>
          <p:nvPr/>
        </p:nvSpPr>
        <p:spPr>
          <a:xfrm>
            <a:off x="2133720" y="3571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 projet, des partenaires, une équip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u déchet organique au comp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Espace réservé du contenu 3" descr="composteur.jpg"/>
          <p:cNvPicPr/>
          <p:nvPr/>
        </p:nvPicPr>
        <p:blipFill>
          <a:blip r:embed="rId2"/>
          <a:stretch/>
        </p:blipFill>
        <p:spPr>
          <a:xfrm>
            <a:off x="1143000" y="2214720"/>
            <a:ext cx="6929280" cy="2368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 élèves au cœur d’un projet pédagog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Documents and Settings\Administrateur\Local Settings\Temporary Internet Files\Content.IE5\0L6V0LAV\MCj04315590000[1].png"/>
          <p:cNvPicPr/>
          <p:nvPr/>
        </p:nvPicPr>
        <p:blipFill>
          <a:blip r:embed="rId2"/>
          <a:stretch/>
        </p:blipFill>
        <p:spPr>
          <a:xfrm>
            <a:off x="2714760" y="2428920"/>
            <a:ext cx="3500280" cy="3494160"/>
          </a:xfrm>
          <a:prstGeom prst="rect">
            <a:avLst/>
          </a:prstGeom>
          <a:ln w="0">
            <a:noFill/>
          </a:ln>
        </p:spPr>
      </p:pic>
      <p:sp>
        <p:nvSpPr>
          <p:cNvPr id="53" name="ZoneTexte 6"/>
          <p:cNvSpPr/>
          <p:nvPr/>
        </p:nvSpPr>
        <p:spPr>
          <a:xfrm>
            <a:off x="3500280" y="1571760"/>
            <a:ext cx="20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gagemen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Pacte Mond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Ecole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7"/>
          <p:cNvSpPr/>
          <p:nvPr/>
        </p:nvSpPr>
        <p:spPr>
          <a:xfrm>
            <a:off x="3857760" y="40006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élè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8"/>
          <p:cNvSpPr/>
          <p:nvPr/>
        </p:nvSpPr>
        <p:spPr>
          <a:xfrm>
            <a:off x="6215040" y="2428920"/>
            <a:ext cx="2714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matio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Clés de compréh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Situations d’apprenti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 Analyse en entrep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9"/>
          <p:cNvSpPr/>
          <p:nvPr/>
        </p:nvSpPr>
        <p:spPr>
          <a:xfrm>
            <a:off x="5857920" y="4643280"/>
            <a:ext cx="292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cherch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éflexion à me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struction d’un sujet de TPE (travaux personnels encadr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tilisation du compost par la SEG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ZoneTexte 10"/>
          <p:cNvSpPr/>
          <p:nvPr/>
        </p:nvSpPr>
        <p:spPr>
          <a:xfrm>
            <a:off x="428760" y="4286160"/>
            <a:ext cx="2786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VT-Ecologie  Physique Chim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Resta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Energie-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- Déch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ZoneTexte 11"/>
          <p:cNvSpPr/>
          <p:nvPr/>
        </p:nvSpPr>
        <p:spPr>
          <a:xfrm>
            <a:off x="500040" y="2571840"/>
            <a:ext cx="2143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conomie et Social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Groupe de travail en TPE et avec d’autres parten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Bilan financier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ableau 1" descr=""/>
          <p:cNvPicPr/>
          <p:nvPr/>
        </p:nvPicPr>
        <p:blipFill>
          <a:blip r:embed="rId2"/>
          <a:stretch/>
        </p:blipFill>
        <p:spPr>
          <a:xfrm>
            <a:off x="212760" y="139680"/>
            <a:ext cx="8431200" cy="650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57200" y="28584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 principe de fonctionn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Espace réservé pour une image  4" descr="composteur01.jpg"/>
          <p:cNvPicPr/>
          <p:nvPr/>
        </p:nvPicPr>
        <p:blipFill>
          <a:blip r:embed="rId2"/>
          <a:srcRect l="3829" t="0" r="3829" b="0"/>
          <a:stretch/>
        </p:blipFill>
        <p:spPr>
          <a:xfrm>
            <a:off x="1285920" y="857160"/>
            <a:ext cx="5994360" cy="3071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6760" y="3928680"/>
            <a:ext cx="792972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’ensemble des opérations de transformation des déchets fermentescibles en compost de grande qualité se réalise sous enceinte confinée avec un brassage régulier de la matière et un contrôle de l’aératio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 trois paramètres de compostage sont optimisés pour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éduire le temps de compostag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t améliorer la qualité des amendements organiques fabriqués : humidité, aération et températu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Une personne suffi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ur alimenter et contrôler le fonctionnement de la machine qui est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tomatisé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en grande parti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es composteurs sont éprouvés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puis une vingtaine d’années en Suède, Irlande, Royaume-Uni, Norvège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Espace réservé pour une image  5" descr="composteur02.jpg"/>
          <p:cNvPicPr/>
          <p:nvPr/>
        </p:nvPicPr>
        <p:blipFill>
          <a:blip r:embed="rId2"/>
          <a:srcRect l="0" t="7434" r="0" b="7434"/>
          <a:stretch/>
        </p:blipFill>
        <p:spPr>
          <a:xfrm>
            <a:off x="4857840" y="428760"/>
            <a:ext cx="4143240" cy="3000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57120" y="1214280"/>
            <a:ext cx="41436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compost de qualité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qu’il est possible de labéliser, et qui est directement utilisable dans les espaces verts et pour la production horticole dans la Cité Scolai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suppression des coûts de traitement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des déchets (transport, location des bennes, …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stage d’une partie des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déchets cartonnés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(En tant qu’apport carboné nécessaire au processus, environ 20%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Aucune nuisance sonore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, et une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filtration des odeurs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ossibilité de mettre en place un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projet phare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ZoneTexte 7"/>
          <p:cNvSpPr/>
          <p:nvPr/>
        </p:nvSpPr>
        <p:spPr>
          <a:xfrm>
            <a:off x="142920" y="428760"/>
            <a:ext cx="528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es avantages du compo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3T13:18:36Z</dcterms:created>
  <dc:creator> </dc:creator>
  <dc:description/>
  <dc:language>en-US</dc:language>
  <cp:lastModifiedBy>catherine.sellin</cp:lastModifiedBy>
  <dcterms:modified xsi:type="dcterms:W3CDTF">2010-03-25T09:48:53Z</dcterms:modified>
  <cp:revision>46</cp:revision>
  <dc:subject/>
  <dc:title>Développement durable pour la cité scolaire Eugène Thomas</dc:title>
</cp:coreProperties>
</file>