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0E1-D3FC-40A9-80DC-926F3A75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6E39-070A-4D8B-AEA9-2D67DBC5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BDAE-A621-40B7-AD9D-137270634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110-A85A-447E-A43B-598DD40DC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05CC-888F-40A5-A568-C9A19636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D71-79C4-4779-A616-77BF3BCF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4FB-53E7-400E-9DB5-91226709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616-F509-4A7F-ABCB-B4609B7A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650-900B-4A65-8D11-871594076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1779-8E9F-43C9-97C3-D12BD1F13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AA23-3D6E-4DBE-802E-75F16DFE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7833-6B98-4D3D-961E-50BFBBC0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0F35E5-50C1-42E2-BF9D-603571E02A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44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NTRE HOSPITALIER DE ROUBAIX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ARTE DU DEVELOPPEMENT DU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85800" y="1498680"/>
          <a:ext cx="762012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98680"/>
                    <a:ext cx="762012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143000" y="1600200"/>
            <a:ext cx="60958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2800 ag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300 médeci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11 s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1200 l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185 M€ budget ann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Zone d ’activité =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300 000 hbts en proximité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                              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ffff00"/>
                </a:solidFill>
                <a:latin typeface="Arial"/>
              </a:rPr>
              <a:t>450 000 hbts en reco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305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PROJ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1/ Adoption d ’une charte de développement dur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CTE FONDATEUR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engageant l ’établissement dans cette dynam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impliquant l ’ensemble des personnels et des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2/ En respect des principes essentiels de la démar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 Déclaration du sommet de la Terre de Rio de Janeiro (199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* Loi constitutionnelle (Charte de l ’Environnement - 200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3/ En lien avec la ville de Roubaix (Agenda 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dur="indefinite" fill="hold">
                      <p:stCondLst>
                        <p:cond delay="indefinite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925040" cy="695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S THE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- Implication du 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Communication : journal interne, blog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Participation : référents dans les pô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- Développement de la solidarit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mbauche de personnes éloignées de l ’emplo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Politique d ’achats équi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Respect des normes éth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- Réduction des gaspill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Diminution des consommations énergét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Utilisation de sources d ’énergies renouvel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chats éco-respons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Solutions alternatives au transport individ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- Qualité environnement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Constructions : norme HQE et B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Déchets : diminution des quantités et filière de recycl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Gestion des espaces ve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dur="indefinite" fill="hold">
                      <p:stCondLst>
                        <p:cond delay="indefinite"/>
                      </p:stCondLst>
                      <p:childTnLst>
                        <p:par>
                          <p:cTn id="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dur="indefinite" fill="hold">
                      <p:stCondLst>
                        <p:cond delay="indefinite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dur="indefinite" fill="hold">
                      <p:stCondLst>
                        <p:cond delay="indefinite"/>
                      </p:stCondLst>
                      <p:childTnLst>
                        <p:par>
                          <p:cTn id="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dur="indefinite" fill="hold">
                      <p:stCondLst>
                        <p:cond delay="indefinite"/>
                      </p:stCondLst>
                      <p:childTnLst>
                        <p:par>
                          <p:cTn id="1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dur="indefinite" fill="hold">
                      <p:stCondLst>
                        <p:cond delay="indefinite"/>
                      </p:stCondLst>
                      <p:childTnLst>
                        <p:par>
                          <p:cTn id="1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48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48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dur="indefinite" fill="hold">
                      <p:stCondLst>
                        <p:cond delay="indefinite"/>
                      </p:stCondLst>
                      <p:childTnLst>
                        <p:par>
                          <p:cTn id="1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48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8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38052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- Déclinaison des thèmes au niveau de chaque service et pôles dans le cadre du projet de l ’établissement 2011-20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- Elaboration de fiches projets par service et par actions avec suivi et indicateurs d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- Rapport annuel aux instances de l ’établiss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4- Coordination de la démarche par un Comité de Pilotage représentatif de toutes les composantes de l ’établissement et présidé par le Direc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4T08:16:15Z</dcterms:created>
  <dc:creator>CHRx</dc:creator>
  <dc:description/>
  <dc:language>en-US</dc:language>
  <cp:lastModifiedBy>danielle.joly</cp:lastModifiedBy>
  <dcterms:modified xsi:type="dcterms:W3CDTF">2010-03-24T15:07:44Z</dcterms:modified>
  <cp:revision>8</cp:revision>
  <dc:subject/>
  <dc:title>CENTRE HOSPITALIER DE ROUBAIX  CHARTE DU DEVELOPPEMENT DURABLE</dc:title>
</cp:coreProperties>
</file>