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DC3-5812-4C91-AEB4-70D5F79A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C9D6-A74A-4C9A-850C-F270D6CC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CF8-B01C-4E55-8033-14B02EB1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20D-72AB-4C70-8EC4-40A5EEC1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26B9-5D69-40A0-A064-8D274291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0372-E968-406D-985A-A0C85243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56C0-58D4-43C1-B7D2-60D88ECF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1158-7BE6-4C66-AAC3-C5F7CFED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E358-0829-4600-BBD8-4224D278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7A6-140B-4589-B458-B6797DE3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8A5-5397-4708-8BDA-07B72D82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FE6-9F67-4BD5-A173-E465DCF8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EE84BA-4308-4713-9284-C6ACD47960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3480"/>
            <a:ext cx="77724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PROGRAMME LOCAL DE L’HABITAT DE LA COMMUNAUTE URBAINE D’ARR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ITE REGIONAL DE L’HABITAT DU 14 JANVI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agnostic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olution démographique fa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ux migratoires équilibrés: entre 1990 et 1999, 7436 ménages entrants pour 7746 ménages sor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serrement des ménages: 2,4 personnes par logement en 1999 contre 2,7 en 1990 et des prévisions à la baisse à l’horizon 2013: Arras ville 1,9 à 2, CUA urbaine hors Arras 2,3 à 2,5, CUA rurale 2,4 à 2,6, soit un besoin annuel de 300 loge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agnostic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 cours du PLH précédent, il a fallu construire 3 logements supplémentaires pour loger un ménage supplément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épartition démographique et sociologique hétérogè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eillissement de la population (24% de la population CUA agée de plus de 60 ans en 2012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agnostic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CUA est un pôle d’emploi dynamique et créditeur: 34.800 actifs pour 48.450 emplo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DU, mais prépondérance de la voiture dans les déplacements individ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iculté croissante à monter des opérations d’habitat social et réglementation de plus en plus contraign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agnostic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ande de logement de moins en moins solvable et demande très sociale qui se diversifie et qui a parfois une origine hors C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héma communautaire d’accueil des gens du voyage inache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 opérations AN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ponibilité de zones U et AU suffisante         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≠ foncier disponible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 parc de logements plutôt confor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lyse des beso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fs de croissance démographi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lle d’Arras: + 2% (1% de croissance endogène et 1% de migration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 urbaine hors Arras: +3% (1,5% + 1,5%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 rurale: + 5% (2,5% + 2,5%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700 logements à livrer sur la CUA entre 2008 et 2013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t 1002 logements locatifs sociaux (27%) et 20% d’accession sociale soit 720 lo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mi les logements locatifs sociaux, 180  logements très sociaux familiaux, soit 18% et 102 logements en maison-relais ou résidence sociale, soit un total de 28% de PL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FS ARRAS ET COMMUNES URBAINES</a:t>
            </a:r>
            <a:br>
              <a:rPr sz="36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logements locatifs sociaux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11280" y="1773360"/>
            <a:ext cx="7346880" cy="4814640"/>
            <a:chOff x="611280" y="1773360"/>
            <a:chExt cx="7346880" cy="4814640"/>
          </a:xfrm>
        </p:grpSpPr>
        <p:sp>
          <p:nvSpPr>
            <p:cNvPr id="73" name=""/>
            <p:cNvSpPr/>
            <p:nvPr/>
          </p:nvSpPr>
          <p:spPr>
            <a:xfrm>
              <a:off x="5506920" y="6068880"/>
              <a:ext cx="2449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60720" y="6068880"/>
              <a:ext cx="24462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1280" y="6068880"/>
              <a:ext cx="2449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te Cather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06920" y="5551560"/>
              <a:ext cx="2449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60720" y="5551560"/>
              <a:ext cx="24462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1280" y="5551560"/>
              <a:ext cx="2449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nz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06920" y="5033880"/>
              <a:ext cx="2449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60720" y="5033880"/>
              <a:ext cx="24462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1280" y="5033880"/>
              <a:ext cx="2449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t Laur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06920" y="4516560"/>
              <a:ext cx="2449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60720" y="4516560"/>
              <a:ext cx="24462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1280" y="4516560"/>
              <a:ext cx="2449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t Nicol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06920" y="3998880"/>
              <a:ext cx="2449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3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60720" y="3998880"/>
              <a:ext cx="24462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6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1280" y="3998880"/>
              <a:ext cx="2449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rr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06920" y="1773360"/>
              <a:ext cx="2449800" cy="22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ont production souhaitable de locatifs sociau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60720" y="1773360"/>
              <a:ext cx="2446200" cy="22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ion totale souhaitable (2008-2013)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1280" y="1773360"/>
              <a:ext cx="2449440" cy="22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Chiffres présentés au bureau du 1er juin 200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1280" y="3998880"/>
              <a:ext cx="4895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1280" y="4516560"/>
              <a:ext cx="7345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1280" y="5033880"/>
              <a:ext cx="7345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1280" y="5551560"/>
              <a:ext cx="7345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1280" y="6068880"/>
              <a:ext cx="7345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1280" y="6586560"/>
              <a:ext cx="7345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1280" y="1773360"/>
              <a:ext cx="1440" cy="481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60720" y="1773360"/>
              <a:ext cx="1440" cy="481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6720" y="1773360"/>
              <a:ext cx="1440" cy="222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06920" y="1773360"/>
              <a:ext cx="244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1280" y="1773360"/>
              <a:ext cx="4895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06920" y="3998880"/>
              <a:ext cx="180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06920" y="1773360"/>
              <a:ext cx="1800" cy="222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56720" y="3998880"/>
              <a:ext cx="1440" cy="258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6920" y="3998880"/>
              <a:ext cx="244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CTIF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RAS ET COMMUNES URBAINES, suite</a:t>
            </a:r>
            <a:br>
              <a:rPr sz="24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logements locatifs sociaux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57200" y="1600200"/>
            <a:ext cx="8231040" cy="3878280"/>
            <a:chOff x="457200" y="1600200"/>
            <a:chExt cx="8231040" cy="3878280"/>
          </a:xfrm>
        </p:grpSpPr>
        <p:sp>
          <p:nvSpPr>
            <p:cNvPr id="108" name=""/>
            <p:cNvSpPr/>
            <p:nvPr/>
          </p:nvSpPr>
          <p:spPr>
            <a:xfrm>
              <a:off x="5943600" y="1600200"/>
              <a:ext cx="27432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00400" y="1600200"/>
              <a:ext cx="27432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" y="1600200"/>
              <a:ext cx="27432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Tillo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43600" y="2246400"/>
              <a:ext cx="27432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00400" y="2246400"/>
              <a:ext cx="27432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8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" y="2246400"/>
              <a:ext cx="27432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eaurai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2892600"/>
              <a:ext cx="274320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00400" y="2892600"/>
              <a:ext cx="274320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" y="2892600"/>
              <a:ext cx="274320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gn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3600" y="3538440"/>
              <a:ext cx="27432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00400" y="3538440"/>
              <a:ext cx="27432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3538440"/>
              <a:ext cx="27432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chicour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43600" y="4184640"/>
              <a:ext cx="27432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00400" y="4184640"/>
              <a:ext cx="27432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184640"/>
              <a:ext cx="27432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ainvil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3600" y="4830840"/>
              <a:ext cx="27432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8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0400" y="4830840"/>
              <a:ext cx="27432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1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" y="4830840"/>
              <a:ext cx="27432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547704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1600200"/>
              <a:ext cx="1440" cy="387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00400" y="1600200"/>
              <a:ext cx="1440" cy="387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43600" y="1600200"/>
              <a:ext cx="1440" cy="387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86800" y="1600200"/>
              <a:ext cx="1440" cy="387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48308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1846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35384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28926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2246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F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MUNES RURALES</a:t>
            </a:r>
            <a:br>
              <a:rPr sz="36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Locatif social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e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ccession sociale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200" y="1600200"/>
            <a:ext cx="8231040" cy="4832280"/>
            <a:chOff x="457200" y="1600200"/>
            <a:chExt cx="8231040" cy="4832280"/>
          </a:xfrm>
        </p:grpSpPr>
        <p:sp>
          <p:nvSpPr>
            <p:cNvPr id="139" name=""/>
            <p:cNvSpPr/>
            <p:nvPr/>
          </p:nvSpPr>
          <p:spPr>
            <a:xfrm>
              <a:off x="5943600" y="5975280"/>
              <a:ext cx="2743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00400" y="5975280"/>
              <a:ext cx="2743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5975280"/>
              <a:ext cx="2743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ncou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5519880"/>
              <a:ext cx="2743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5519880"/>
              <a:ext cx="2743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" y="5519880"/>
              <a:ext cx="2743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euville Vitas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5064120"/>
              <a:ext cx="2743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00400" y="5064120"/>
              <a:ext cx="2743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5064120"/>
              <a:ext cx="2743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ercat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4608360"/>
              <a:ext cx="2743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00400" y="4608360"/>
              <a:ext cx="2743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4608360"/>
              <a:ext cx="2743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Beaumet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4152960"/>
              <a:ext cx="2743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00400" y="4152960"/>
              <a:ext cx="2743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" y="4152960"/>
              <a:ext cx="2743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il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43600" y="3697200"/>
              <a:ext cx="2743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00400" y="3697200"/>
              <a:ext cx="2743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3697200"/>
              <a:ext cx="2743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Fampo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3600" y="3241800"/>
              <a:ext cx="2743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400" y="3241800"/>
              <a:ext cx="2743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3241800"/>
              <a:ext cx="2743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th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2786040"/>
              <a:ext cx="2743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00400" y="2786040"/>
              <a:ext cx="2743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" y="2786040"/>
              <a:ext cx="2743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Feuch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43600" y="1600200"/>
              <a:ext cx="274320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ont logements locatifs </a:t>
              </a:r>
              <a:r>
                <a:rPr b="0" lang="en-GB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e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access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0400" y="1600200"/>
              <a:ext cx="274320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oduction totale souhaitable (2008-2013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" y="1600200"/>
              <a:ext cx="274320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Chiffres présentés au bureau du 1er juin 200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" y="27860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32418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369720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415296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460836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506412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55198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59752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643104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" y="1600200"/>
              <a:ext cx="1440" cy="48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1600200"/>
              <a:ext cx="1440" cy="483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43600" y="1600200"/>
              <a:ext cx="1440" cy="483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86800" y="1600200"/>
              <a:ext cx="1440" cy="48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ALYSE DES BESOIN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UNES RURALES, suite</a:t>
            </a:r>
            <a:br>
              <a:rPr sz="24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Locatif social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e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ccession sociale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57200" y="1600200"/>
            <a:ext cx="8231040" cy="4522680"/>
            <a:chOff x="457200" y="1600200"/>
            <a:chExt cx="8231040" cy="4522680"/>
          </a:xfrm>
        </p:grpSpPr>
        <p:sp>
          <p:nvSpPr>
            <p:cNvPr id="182" name=""/>
            <p:cNvSpPr/>
            <p:nvPr/>
          </p:nvSpPr>
          <p:spPr>
            <a:xfrm>
              <a:off x="5943600" y="160020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00400" y="160020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160020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ncou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43600" y="216540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00400" y="216540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" y="216540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onchy le Pr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43600" y="273060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400" y="273060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" y="273060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avrel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3295800"/>
              <a:ext cx="27432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00400" y="3295800"/>
              <a:ext cx="27432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7200" y="3295800"/>
              <a:ext cx="27432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Baill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43600" y="386064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0400" y="386064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" y="386064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hél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43600" y="442584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00400" y="442584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442584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illerv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43600" y="499104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00400" y="499104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" y="499104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Farb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3600" y="555624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80 dont 111 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00400" y="555624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200" y="555624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7200" y="612144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7200" y="1600200"/>
              <a:ext cx="1440" cy="452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00400" y="1600200"/>
              <a:ext cx="1440" cy="45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3600" y="1600200"/>
              <a:ext cx="1440" cy="45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686800" y="1600200"/>
              <a:ext cx="1440" cy="452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200" y="5556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7200" y="4991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" y="44258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38606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32958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7200" y="27306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écision d’entreprendre le PLH le 6 février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ix du BET juillet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er arrêt du PLH le 29 ju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ème arrêt après consultation des communes et du SESDRA le 23 novembr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6 axes stratég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ganiser efficacement la politique Habitat de la C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cer une programmation raisonnable mais très qualitative et ciblée géographiqu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tenir de tous les élus des engagements a min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miser les crédits publ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évelopper l’accession so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er une nouvelle offre très sociale en logement et en héber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xe 1:Organiser la politique locale de l’habita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rôler en amont la légitimité des projets 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nforcer les moyens humains de la CUA et la transvers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tre en place des outils de suivi du PLH et d’observation du marché immobi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ncer des projets innovants (forme urbaine, développement durable, publics spécifique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xe 2:Lancer une programmation raisonnable mais qualitative et ciblée géographiqu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 effort important de construction de logements sociaux: 1000 locatifs et 720 acc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e répartition sur tout le territoire: chaque commune rurale s’engage à réaliser au moins une opé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 réponses adaptées aux publics spécifiques (voir axe 6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 mobilisation du parc pri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xe 3: obtenir des élus des engagements a min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xe 4:Optimiser les crédits publ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oir le système d’aides de la CUA en privilégiant notamment la baisse de la quittance pour les locataires et plus généralement les démarches de développement du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xe 5: Développer l’accession sociale, y compris en ruralité, pour permettre les parcours résidentiels et éviter le délitement de l’offre à l’extérieur de la C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xe 6: Proposer une nouvelle offre très sociale en logement et en héber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re les 180 PLAI, résoudre les situations problématiques identifié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lades psychiatriques en voie de sta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eux mi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DF vieillis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vailleurs préc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rties d’héber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mélioration de l’Habitat privé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IG (programme d’intérêt général 2008-2010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aptation des logements au vieillissement et au handi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Économies d’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ise sur le marché de logements vac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tte contre l’insalubrité et le logement ind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tion de logements locatifs abord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 « façades », hors P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mélioration de l’Habitat privé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IG (programme d’intérêt général)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soins résultant de l’étude pré-opérationnelle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riétaires occup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Économies d’énergies: 120 dossiers/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ation handicap et vieillissement: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rtie d’insalubrité: 5 dossiers/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res travaux, PO très social: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riétaires bailleu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yer libre: 10 dossiers/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yer intermédiaire: 10 dossiers/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yer conventionné: 5 dossiers/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yer PST: 5 dossiers/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pter les aides aux PO impécuni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biliser les aides extérieurs (ADEME…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YNTHESE DU PLAN D’ACTION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DE DE LA CUA AUX OPE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1600200"/>
            <a:ext cx="8231040" cy="4950000"/>
            <a:chOff x="457200" y="1600200"/>
            <a:chExt cx="8231040" cy="4950000"/>
          </a:xfrm>
        </p:grpSpPr>
        <p:sp>
          <p:nvSpPr>
            <p:cNvPr id="235" name=""/>
            <p:cNvSpPr/>
            <p:nvPr/>
          </p:nvSpPr>
          <p:spPr>
            <a:xfrm>
              <a:off x="5943600" y="598320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598320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1.615.000 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7200" y="598320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43600" y="5343480"/>
              <a:ext cx="2743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6.666 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00400" y="5343480"/>
              <a:ext cx="2743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00.000 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7200" y="5343480"/>
              <a:ext cx="2743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ébergement des personnes défavorisé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3600" y="477828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00400" y="477828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00.000 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7200" y="477828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abitat dur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43600" y="3863880"/>
              <a:ext cx="27432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33.333 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00400" y="3863880"/>
              <a:ext cx="27432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.000.000 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" y="3863880"/>
              <a:ext cx="27432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litique foncière en faveur du logement 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3600" y="3297240"/>
              <a:ext cx="2743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50.000 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00400" y="3297240"/>
              <a:ext cx="2743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.700.000 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7200" y="3297240"/>
              <a:ext cx="2743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cession soci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43600" y="273204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95.883 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00400" y="273204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.375.000 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7200" y="273204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arc public locat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43600" y="2165400"/>
              <a:ext cx="2743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40.000 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00400" y="2165400"/>
              <a:ext cx="2743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40.000 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" y="2165400"/>
              <a:ext cx="2743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arc privé locat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43600" y="160020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Coût annu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00400" y="160020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udget tot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7200" y="1600200"/>
              <a:ext cx="27432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200" y="47782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7200" y="53434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7200" y="598320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" y="654840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1600200"/>
              <a:ext cx="1440" cy="494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00400" y="1600200"/>
              <a:ext cx="1440" cy="494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43600" y="1600200"/>
              <a:ext cx="1440" cy="494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686800" y="1600200"/>
              <a:ext cx="1440" cy="494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ultation de l’Etat en parallèle, CRH le 14 janvi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robation du PLH et d’une convention de délégation des aides à la pierre 2008-2013 prévue par la CUA au Conseil du 8 févri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ité février/mars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 PLH: une démarche particip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groupe de travail réunissant les présidents des commissions Habitat, Aménagement et Urbanisme ainsi que la DDE s’est réuni environ une fois par mo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diagnostic a été présenté au Bureau de la CUA le 24/11/2006, les orientations stratégiques à celui du 21/03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 PLH: une démarche particip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maires de toutes les communes et/ou les conseils municipaux ont été rencontrés et informés du diagnostic et des chiffres de production envisagés de novembre 2006 à mars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opérateurs ont été consultés sur leur perception de l’existant et sur  leur stratégie le 07/11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 PLH: une démarche particip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comité de pilotage a réuni le 21/05/2007 les acteurs de l’accompagnement social pour déterminer les besoins en logement et hébergement spécif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comité de pilotage a réuni en séance plénière l’ensemble des institutions agissant sur le territoire de la C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 PLH: une démarche fondée sur l’analyse de la dema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demande sociale tend à se spécialiser vers des ménages qui ont les revenus les plus faibles (les ¾ des attributions en PLUS sont faites à des ménages pouvant entrer dans du PLAI, c’est-à dire dont les ressources sont inférieures ou égales à 60% du plafond HLM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 PLH: une démarche fondée sur l’analyse de la dema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ménages avec enfants qui pourraient prétendre à un logement locatif social préfèrent accéder à la proprié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 ménages agés souhaitent rester dans le logement social qu’ils (sur)occup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fre à produire = demande des ménages projetée en 2013 (typologie des ménages + comportement) - offre act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lan du PLH de 19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tion importante de logements mais spécialisation des territoires et croissance démographique fa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 efforts pour intégrer les quartiers en difficulté dans la 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gmentation de la capacité d’accueil des défavor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motion de la qualité de l’habitat privé (OPAH 1998-2002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se de responsabilité insuffisante au niveau intercommu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HUISSIER </dc:creator>
  <dc:description/>
  <dc:language>en-US</dc:language>
  <cp:lastModifiedBy>LHUISSIER </cp:lastModifiedBy>
  <cp:revision>0</cp:revision>
  <dc:subject/>
  <dc:title>PROGRAMME LOCAL DE L’HABITAT DE LA COMMUNAUTE URBAINE D’ARRAS </dc:title>
</cp:coreProperties>
</file>